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6322-FA5B-4569-858E-AD758DF4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0FEE-927B-4645-8192-D68CF08A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E61-81C6-423D-AD0C-43DBA48D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D83-3C28-4205-AC4A-81DC264F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015-9DDC-4077-8079-343F217E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121-6936-47D6-9780-EA71E40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A2A-CC89-4875-B079-24C00B67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551-2F52-4546-8EEA-0B6F29FE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11E-E518-440A-95CD-E6DD6AE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1FE-B21E-4898-82B7-7A87634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B3A-29C8-4F4F-9AE2-D171D3D5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DD3-BFB4-4771-B599-132EA5A8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587-3F47-451C-9BBD-9CF6A644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071-C935-4403-8C62-0B5A9BAE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84904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90120" y="17301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760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84904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190120" y="3830760"/>
            <a:ext cx="22294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66196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055760" y="38307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55760" y="1730160"/>
            <a:ext cx="3378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600" y="3830760"/>
            <a:ext cx="6924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43D4-6794-4FE0-8678-C0856203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685800" y="2895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backdrop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66196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07600" y="1730160"/>
            <a:ext cx="69246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00360" cy="82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7380360" y="189000"/>
          <a:ext cx="1484280" cy="70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189000"/>
                    <a:ext cx="14842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hyperlink" Target="http://www.ogcnetwork.net/system/files/080206+ADC-6+Percivall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gcnetwork.net/system/files/080206+ADC-6+Percivall.ppt" TargetMode="External"/><Relationship Id="rId2" Type="http://schemas.openxmlformats.org/officeDocument/2006/relationships/hyperlink" Target="http://www.ogcnetwork.net/system/files/080206+ADC-6+Percivall.pp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87680"/>
            <a:ext cx="733104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GEO Architecture and Data Committee</a:t>
            </a:r>
            <a:br>
              <a:rPr sz="2800"/>
            </a:br>
            <a:r>
              <a:rPr b="1" lang="en-GB" sz="3600" spc="-1" strike="noStrike">
                <a:solidFill>
                  <a:srgbClr val="005faa"/>
                </a:solidFill>
                <a:latin typeface="Arial"/>
              </a:rPr>
              <a:t>Task AR-07-02 </a:t>
            </a:r>
            <a:br>
              <a:rPr sz="3600"/>
            </a:br>
            <a:r>
              <a:rPr b="1" lang="en-GB" sz="32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rge Perciv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 Geospatial Consor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 Task AR-07-02 Point of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-6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-J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19120" y="3171960"/>
            <a:ext cx="962280" cy="9619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4400" y="1042920"/>
            <a:ext cx="71168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EOSS Architecture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for the Air Quality Community (Feb 2008)</a:t>
            </a:r>
            <a:endParaRPr b="1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4222800" y="1951200"/>
            <a:ext cx="1420920" cy="63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19640" y="4232160"/>
            <a:ext cx="1244880" cy="785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2800" y="2560680"/>
            <a:ext cx="1390680" cy="720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255920" y="4087800"/>
            <a:ext cx="1258560" cy="999720"/>
            <a:chOff x="4255920" y="4087800"/>
            <a:chExt cx="1258560" cy="999720"/>
          </a:xfrm>
        </p:grpSpPr>
        <p:sp>
          <p:nvSpPr>
            <p:cNvPr id="364" name=""/>
            <p:cNvSpPr/>
            <p:nvPr/>
          </p:nvSpPr>
          <p:spPr>
            <a:xfrm>
              <a:off x="4255920" y="4131360"/>
              <a:ext cx="1187280" cy="95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28640" y="4336560"/>
              <a:ext cx="538560" cy="48240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84880" y="4475880"/>
              <a:ext cx="226080" cy="20340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58480" y="4538880"/>
              <a:ext cx="538560" cy="48204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15080" y="4677840"/>
              <a:ext cx="226080" cy="20340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32400" y="4087800"/>
              <a:ext cx="982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4200" y="4206960"/>
            <a:ext cx="82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19400" y="2563920"/>
            <a:ext cx="198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fi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2120" y="3984480"/>
            <a:ext cx="1195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ind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58" idx="3"/>
            <a:endCxn id="364" idx="1"/>
          </p:cNvCxnSpPr>
          <p:nvPr/>
        </p:nvCxnSpPr>
        <p:spPr>
          <a:xfrm>
            <a:off x="2381040" y="3652560"/>
            <a:ext cx="1875240" cy="95796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61" idx="6"/>
            <a:endCxn id="362" idx="4"/>
          </p:cNvCxnSpPr>
          <p:nvPr/>
        </p:nvCxnSpPr>
        <p:spPr>
          <a:xfrm flipH="1" flipV="1">
            <a:off x="5613120" y="2920680"/>
            <a:ext cx="1751760" cy="1705680"/>
          </a:xfrm>
          <a:prstGeom prst="curvedConnector5">
            <a:avLst>
              <a:gd name="adj1" fmla="val -13052"/>
              <a:gd name="adj2" fmla="val 49989"/>
              <a:gd name="adj3" fmla="val -130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58" idx="3"/>
            <a:endCxn id="360" idx="1"/>
          </p:cNvCxnSpPr>
          <p:nvPr/>
        </p:nvCxnSpPr>
        <p:spPr>
          <a:xfrm flipV="1">
            <a:off x="2381040" y="2266560"/>
            <a:ext cx="1842120" cy="13867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6321600" y="3105000"/>
            <a:ext cx="90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ubl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1" idx="2"/>
            <a:endCxn id="364" idx="3"/>
          </p:cNvCxnSpPr>
          <p:nvPr/>
        </p:nvCxnSpPr>
        <p:spPr>
          <a:xfrm flipH="1" flipV="1">
            <a:off x="5443200" y="4609800"/>
            <a:ext cx="6768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962280" cy="961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2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ore Architectur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3352680"/>
            <a:ext cx="19051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952880"/>
            <a:ext cx="1981440" cy="144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2800" y="3608280"/>
            <a:ext cx="10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1676520"/>
            <a:ext cx="25272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O Web Port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 other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2209680"/>
            <a:ext cx="1067040" cy="1143000"/>
          </a:xfrm>
          <a:custGeom>
            <a:avLst/>
            <a:gdLst/>
            <a:ahLst/>
            <a:rect l="l" t="t" r="r" b="b"/>
            <a:pathLst>
              <a:path w="672" h="912">
                <a:moveTo>
                  <a:pt x="672" y="0"/>
                </a:moveTo>
                <a:lnTo>
                  <a:pt x="0" y="0"/>
                </a:lnTo>
                <a:lnTo>
                  <a:pt x="0" y="9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520" y="22096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70280" y="5511960"/>
            <a:ext cx="13716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87600" y="4762440"/>
            <a:ext cx="1107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32004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181480" y="4648320"/>
            <a:ext cx="1447920" cy="990360"/>
            <a:chOff x="5181480" y="4648320"/>
            <a:chExt cx="1447920" cy="990360"/>
          </a:xfrm>
        </p:grpSpPr>
        <p:sp>
          <p:nvSpPr>
            <p:cNvPr id="144" name=""/>
            <p:cNvSpPr/>
            <p:nvPr/>
          </p:nvSpPr>
          <p:spPr>
            <a:xfrm>
              <a:off x="5486400" y="464832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480060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4120" y="495288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219320" y="3886200"/>
            <a:ext cx="609480" cy="106668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84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960600" y="4637160"/>
            <a:ext cx="1862640" cy="1470240"/>
            <a:chOff x="6960600" y="4637160"/>
            <a:chExt cx="1862640" cy="1470240"/>
          </a:xfrm>
        </p:grpSpPr>
        <p:grpSp>
          <p:nvGrpSpPr>
            <p:cNvPr id="149" name=""/>
            <p:cNvGrpSpPr/>
            <p:nvPr/>
          </p:nvGrpSpPr>
          <p:grpSpPr>
            <a:xfrm>
              <a:off x="7287120" y="4637160"/>
              <a:ext cx="1536120" cy="1244520"/>
              <a:chOff x="7287120" y="4637160"/>
              <a:chExt cx="1536120" cy="12445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287120" y="4637160"/>
                <a:ext cx="853560" cy="876600"/>
                <a:chOff x="7287120" y="4637160"/>
                <a:chExt cx="853560" cy="876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287120" y="4637160"/>
                  <a:ext cx="853560" cy="87660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533360" y="4889160"/>
                  <a:ext cx="360360" cy="37188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969680" y="5004360"/>
                <a:ext cx="853560" cy="877320"/>
                <a:chOff x="7969680" y="5004360"/>
                <a:chExt cx="853560" cy="8773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969680" y="5004360"/>
                  <a:ext cx="853560" cy="877320"/>
                </a:xfrm>
                <a:custGeom>
                  <a:avLst/>
                  <a:gdLst/>
                  <a:ahLst/>
                  <a:rect l="l" t="t" r="r" b="b"/>
                  <a:pathLst>
                    <a:path w="1395" h="1396">
                      <a:moveTo>
                        <a:pt x="798" y="1241"/>
                      </a:moveTo>
                      <a:lnTo>
                        <a:pt x="779" y="1391"/>
                      </a:lnTo>
                      <a:lnTo>
                        <a:pt x="772" y="1392"/>
                      </a:lnTo>
                      <a:lnTo>
                        <a:pt x="766" y="1392"/>
                      </a:lnTo>
                      <a:lnTo>
                        <a:pt x="759" y="1393"/>
                      </a:lnTo>
                      <a:lnTo>
                        <a:pt x="753" y="1393"/>
                      </a:lnTo>
                      <a:lnTo>
                        <a:pt x="748" y="1395"/>
                      </a:lnTo>
                      <a:lnTo>
                        <a:pt x="741" y="1395"/>
                      </a:lnTo>
                      <a:lnTo>
                        <a:pt x="735" y="1396"/>
                      </a:lnTo>
                      <a:lnTo>
                        <a:pt x="728" y="1396"/>
                      </a:lnTo>
                      <a:lnTo>
                        <a:pt x="690" y="1250"/>
                      </a:lnTo>
                      <a:lnTo>
                        <a:pt x="675" y="1249"/>
                      </a:lnTo>
                      <a:lnTo>
                        <a:pt x="665" y="1249"/>
                      </a:lnTo>
                      <a:lnTo>
                        <a:pt x="654" y="1248"/>
                      </a:lnTo>
                      <a:lnTo>
                        <a:pt x="644" y="1248"/>
                      </a:lnTo>
                      <a:lnTo>
                        <a:pt x="635" y="1247"/>
                      </a:lnTo>
                      <a:lnTo>
                        <a:pt x="624" y="1246"/>
                      </a:lnTo>
                      <a:lnTo>
                        <a:pt x="614" y="1244"/>
                      </a:lnTo>
                      <a:lnTo>
                        <a:pt x="604" y="1242"/>
                      </a:lnTo>
                      <a:lnTo>
                        <a:pt x="593" y="1240"/>
                      </a:lnTo>
                      <a:lnTo>
                        <a:pt x="580" y="1238"/>
                      </a:lnTo>
                      <a:lnTo>
                        <a:pt x="506" y="1369"/>
                      </a:lnTo>
                      <a:lnTo>
                        <a:pt x="498" y="1367"/>
                      </a:lnTo>
                      <a:lnTo>
                        <a:pt x="490" y="1363"/>
                      </a:lnTo>
                      <a:lnTo>
                        <a:pt x="482" y="1361"/>
                      </a:lnTo>
                      <a:lnTo>
                        <a:pt x="474" y="1359"/>
                      </a:lnTo>
                      <a:lnTo>
                        <a:pt x="470" y="1358"/>
                      </a:lnTo>
                      <a:lnTo>
                        <a:pt x="467" y="1356"/>
                      </a:lnTo>
                      <a:lnTo>
                        <a:pt x="463" y="1355"/>
                      </a:lnTo>
                      <a:lnTo>
                        <a:pt x="459" y="1354"/>
                      </a:lnTo>
                      <a:lnTo>
                        <a:pt x="479" y="1206"/>
                      </a:lnTo>
                      <a:lnTo>
                        <a:pt x="466" y="1200"/>
                      </a:lnTo>
                      <a:lnTo>
                        <a:pt x="455" y="1195"/>
                      </a:lnTo>
                      <a:lnTo>
                        <a:pt x="446" y="1191"/>
                      </a:lnTo>
                      <a:lnTo>
                        <a:pt x="437" y="1186"/>
                      </a:lnTo>
                      <a:lnTo>
                        <a:pt x="426" y="1180"/>
                      </a:lnTo>
                      <a:lnTo>
                        <a:pt x="417" y="1174"/>
                      </a:lnTo>
                      <a:lnTo>
                        <a:pt x="408" y="1170"/>
                      </a:lnTo>
                      <a:lnTo>
                        <a:pt x="399" y="1164"/>
                      </a:lnTo>
                      <a:lnTo>
                        <a:pt x="390" y="1158"/>
                      </a:lnTo>
                      <a:lnTo>
                        <a:pt x="378" y="1150"/>
                      </a:lnTo>
                      <a:lnTo>
                        <a:pt x="261" y="1241"/>
                      </a:lnTo>
                      <a:lnTo>
                        <a:pt x="256" y="1238"/>
                      </a:lnTo>
                      <a:lnTo>
                        <a:pt x="251" y="1233"/>
                      </a:lnTo>
                      <a:lnTo>
                        <a:pt x="247" y="1230"/>
                      </a:lnTo>
                      <a:lnTo>
                        <a:pt x="242" y="1225"/>
                      </a:lnTo>
                      <a:lnTo>
                        <a:pt x="238" y="1222"/>
                      </a:lnTo>
                      <a:lnTo>
                        <a:pt x="233" y="1218"/>
                      </a:lnTo>
                      <a:lnTo>
                        <a:pt x="228" y="1214"/>
                      </a:lnTo>
                      <a:lnTo>
                        <a:pt x="224" y="1210"/>
                      </a:lnTo>
                      <a:lnTo>
                        <a:pt x="299" y="1082"/>
                      </a:lnTo>
                      <a:lnTo>
                        <a:pt x="288" y="1072"/>
                      </a:lnTo>
                      <a:lnTo>
                        <a:pt x="281" y="1064"/>
                      </a:lnTo>
                      <a:lnTo>
                        <a:pt x="273" y="1056"/>
                      </a:lnTo>
                      <a:lnTo>
                        <a:pt x="266" y="1047"/>
                      </a:lnTo>
                      <a:lnTo>
                        <a:pt x="259" y="1038"/>
                      </a:lnTo>
                      <a:lnTo>
                        <a:pt x="253" y="1029"/>
                      </a:lnTo>
                      <a:lnTo>
                        <a:pt x="246" y="1020"/>
                      </a:lnTo>
                      <a:lnTo>
                        <a:pt x="240" y="1011"/>
                      </a:lnTo>
                      <a:lnTo>
                        <a:pt x="233" y="1002"/>
                      </a:lnTo>
                      <a:lnTo>
                        <a:pt x="225" y="990"/>
                      </a:lnTo>
                      <a:lnTo>
                        <a:pt x="84" y="1028"/>
                      </a:lnTo>
                      <a:lnTo>
                        <a:pt x="79" y="1018"/>
                      </a:lnTo>
                      <a:lnTo>
                        <a:pt x="73" y="1007"/>
                      </a:lnTo>
                      <a:lnTo>
                        <a:pt x="68" y="997"/>
                      </a:lnTo>
                      <a:lnTo>
                        <a:pt x="63" y="985"/>
                      </a:lnTo>
                      <a:lnTo>
                        <a:pt x="179" y="898"/>
                      </a:lnTo>
                      <a:lnTo>
                        <a:pt x="173" y="884"/>
                      </a:lnTo>
                      <a:lnTo>
                        <a:pt x="166" y="862"/>
                      </a:lnTo>
                      <a:lnTo>
                        <a:pt x="159" y="840"/>
                      </a:lnTo>
                      <a:lnTo>
                        <a:pt x="153" y="817"/>
                      </a:lnTo>
                      <a:lnTo>
                        <a:pt x="149" y="795"/>
                      </a:lnTo>
                      <a:lnTo>
                        <a:pt x="147" y="781"/>
                      </a:lnTo>
                      <a:lnTo>
                        <a:pt x="4" y="764"/>
                      </a:lnTo>
                      <a:lnTo>
                        <a:pt x="3" y="752"/>
                      </a:lnTo>
                      <a:lnTo>
                        <a:pt x="1" y="740"/>
                      </a:lnTo>
                      <a:lnTo>
                        <a:pt x="1" y="727"/>
                      </a:lnTo>
                      <a:lnTo>
                        <a:pt x="0" y="716"/>
                      </a:lnTo>
                      <a:lnTo>
                        <a:pt x="139" y="679"/>
                      </a:lnTo>
                      <a:lnTo>
                        <a:pt x="140" y="665"/>
                      </a:lnTo>
                      <a:lnTo>
                        <a:pt x="141" y="642"/>
                      </a:lnTo>
                      <a:lnTo>
                        <a:pt x="144" y="619"/>
                      </a:lnTo>
                      <a:lnTo>
                        <a:pt x="147" y="596"/>
                      </a:lnTo>
                      <a:lnTo>
                        <a:pt x="151" y="573"/>
                      </a:lnTo>
                      <a:lnTo>
                        <a:pt x="155" y="559"/>
                      </a:lnTo>
                      <a:lnTo>
                        <a:pt x="33" y="489"/>
                      </a:lnTo>
                      <a:lnTo>
                        <a:pt x="34" y="484"/>
                      </a:lnTo>
                      <a:lnTo>
                        <a:pt x="35" y="481"/>
                      </a:lnTo>
                      <a:lnTo>
                        <a:pt x="36" y="477"/>
                      </a:lnTo>
                      <a:lnTo>
                        <a:pt x="37" y="473"/>
                      </a:lnTo>
                      <a:lnTo>
                        <a:pt x="39" y="466"/>
                      </a:lnTo>
                      <a:lnTo>
                        <a:pt x="43" y="458"/>
                      </a:lnTo>
                      <a:lnTo>
                        <a:pt x="45" y="451"/>
                      </a:lnTo>
                      <a:lnTo>
                        <a:pt x="49" y="443"/>
                      </a:lnTo>
                      <a:lnTo>
                        <a:pt x="188" y="462"/>
                      </a:lnTo>
                      <a:lnTo>
                        <a:pt x="194" y="450"/>
                      </a:lnTo>
                      <a:lnTo>
                        <a:pt x="200" y="439"/>
                      </a:lnTo>
                      <a:lnTo>
                        <a:pt x="204" y="429"/>
                      </a:lnTo>
                      <a:lnTo>
                        <a:pt x="210" y="418"/>
                      </a:lnTo>
                      <a:lnTo>
                        <a:pt x="216" y="408"/>
                      </a:lnTo>
                      <a:lnTo>
                        <a:pt x="221" y="399"/>
                      </a:lnTo>
                      <a:lnTo>
                        <a:pt x="228" y="389"/>
                      </a:lnTo>
                      <a:lnTo>
                        <a:pt x="234" y="379"/>
                      </a:lnTo>
                      <a:lnTo>
                        <a:pt x="241" y="370"/>
                      </a:lnTo>
                      <a:lnTo>
                        <a:pt x="249" y="357"/>
                      </a:lnTo>
                      <a:lnTo>
                        <a:pt x="164" y="249"/>
                      </a:lnTo>
                      <a:lnTo>
                        <a:pt x="167" y="244"/>
                      </a:lnTo>
                      <a:lnTo>
                        <a:pt x="172" y="240"/>
                      </a:lnTo>
                      <a:lnTo>
                        <a:pt x="177" y="235"/>
                      </a:lnTo>
                      <a:lnTo>
                        <a:pt x="180" y="231"/>
                      </a:lnTo>
                      <a:lnTo>
                        <a:pt x="185" y="226"/>
                      </a:lnTo>
                      <a:lnTo>
                        <a:pt x="189" y="221"/>
                      </a:lnTo>
                      <a:lnTo>
                        <a:pt x="194" y="217"/>
                      </a:lnTo>
                      <a:lnTo>
                        <a:pt x="198" y="212"/>
                      </a:lnTo>
                      <a:lnTo>
                        <a:pt x="318" y="281"/>
                      </a:lnTo>
                      <a:lnTo>
                        <a:pt x="329" y="272"/>
                      </a:lnTo>
                      <a:lnTo>
                        <a:pt x="338" y="264"/>
                      </a:lnTo>
                      <a:lnTo>
                        <a:pt x="346" y="257"/>
                      </a:lnTo>
                      <a:lnTo>
                        <a:pt x="355" y="250"/>
                      </a:lnTo>
                      <a:lnTo>
                        <a:pt x="364" y="243"/>
                      </a:lnTo>
                      <a:lnTo>
                        <a:pt x="373" y="238"/>
                      </a:lnTo>
                      <a:lnTo>
                        <a:pt x="383" y="232"/>
                      </a:lnTo>
                      <a:lnTo>
                        <a:pt x="392" y="225"/>
                      </a:lnTo>
                      <a:lnTo>
                        <a:pt x="401" y="219"/>
                      </a:lnTo>
                      <a:lnTo>
                        <a:pt x="414" y="211"/>
                      </a:lnTo>
                      <a:lnTo>
                        <a:pt x="377" y="79"/>
                      </a:lnTo>
                      <a:lnTo>
                        <a:pt x="383" y="76"/>
                      </a:lnTo>
                      <a:lnTo>
                        <a:pt x="388" y="73"/>
                      </a:lnTo>
                      <a:lnTo>
                        <a:pt x="394" y="70"/>
                      </a:lnTo>
                      <a:lnTo>
                        <a:pt x="400" y="67"/>
                      </a:lnTo>
                      <a:lnTo>
                        <a:pt x="406" y="65"/>
                      </a:lnTo>
                      <a:lnTo>
                        <a:pt x="413" y="62"/>
                      </a:lnTo>
                      <a:lnTo>
                        <a:pt x="418" y="59"/>
                      </a:lnTo>
                      <a:lnTo>
                        <a:pt x="424" y="57"/>
                      </a:lnTo>
                      <a:lnTo>
                        <a:pt x="507" y="167"/>
                      </a:lnTo>
                      <a:lnTo>
                        <a:pt x="521" y="163"/>
                      </a:lnTo>
                      <a:lnTo>
                        <a:pt x="531" y="159"/>
                      </a:lnTo>
                      <a:lnTo>
                        <a:pt x="542" y="156"/>
                      </a:lnTo>
                      <a:lnTo>
                        <a:pt x="552" y="153"/>
                      </a:lnTo>
                      <a:lnTo>
                        <a:pt x="562" y="150"/>
                      </a:lnTo>
                      <a:lnTo>
                        <a:pt x="573" y="148"/>
                      </a:lnTo>
                      <a:lnTo>
                        <a:pt x="583" y="145"/>
                      </a:lnTo>
                      <a:lnTo>
                        <a:pt x="593" y="143"/>
                      </a:lnTo>
                      <a:lnTo>
                        <a:pt x="604" y="141"/>
                      </a:lnTo>
                      <a:lnTo>
                        <a:pt x="619" y="138"/>
                      </a:lnTo>
                      <a:lnTo>
                        <a:pt x="636" y="4"/>
                      </a:lnTo>
                      <a:lnTo>
                        <a:pt x="643" y="2"/>
                      </a:lnTo>
                      <a:lnTo>
                        <a:pt x="649" y="2"/>
                      </a:lnTo>
                      <a:lnTo>
                        <a:pt x="656" y="1"/>
                      </a:lnTo>
                      <a:lnTo>
                        <a:pt x="662" y="1"/>
                      </a:lnTo>
                      <a:lnTo>
                        <a:pt x="669" y="0"/>
                      </a:lnTo>
                      <a:lnTo>
                        <a:pt x="676" y="0"/>
                      </a:lnTo>
                      <a:lnTo>
                        <a:pt x="683" y="0"/>
                      </a:lnTo>
                      <a:lnTo>
                        <a:pt x="690" y="0"/>
                      </a:lnTo>
                      <a:lnTo>
                        <a:pt x="725" y="134"/>
                      </a:lnTo>
                      <a:lnTo>
                        <a:pt x="738" y="135"/>
                      </a:lnTo>
                      <a:lnTo>
                        <a:pt x="749" y="136"/>
                      </a:lnTo>
                      <a:lnTo>
                        <a:pt x="759" y="137"/>
                      </a:lnTo>
                      <a:lnTo>
                        <a:pt x="770" y="138"/>
                      </a:lnTo>
                      <a:lnTo>
                        <a:pt x="780" y="140"/>
                      </a:lnTo>
                      <a:lnTo>
                        <a:pt x="790" y="142"/>
                      </a:lnTo>
                      <a:lnTo>
                        <a:pt x="801" y="143"/>
                      </a:lnTo>
                      <a:lnTo>
                        <a:pt x="811" y="145"/>
                      </a:lnTo>
                      <a:lnTo>
                        <a:pt x="821" y="148"/>
                      </a:lnTo>
                      <a:lnTo>
                        <a:pt x="836" y="151"/>
                      </a:lnTo>
                      <a:lnTo>
                        <a:pt x="904" y="31"/>
                      </a:lnTo>
                      <a:lnTo>
                        <a:pt x="911" y="34"/>
                      </a:lnTo>
                      <a:lnTo>
                        <a:pt x="917" y="36"/>
                      </a:lnTo>
                      <a:lnTo>
                        <a:pt x="923" y="38"/>
                      </a:lnTo>
                      <a:lnTo>
                        <a:pt x="930" y="41"/>
                      </a:lnTo>
                      <a:lnTo>
                        <a:pt x="935" y="43"/>
                      </a:lnTo>
                      <a:lnTo>
                        <a:pt x="942" y="45"/>
                      </a:lnTo>
                      <a:lnTo>
                        <a:pt x="949" y="47"/>
                      </a:lnTo>
                      <a:lnTo>
                        <a:pt x="956" y="50"/>
                      </a:lnTo>
                      <a:lnTo>
                        <a:pt x="937" y="188"/>
                      </a:lnTo>
                      <a:lnTo>
                        <a:pt x="949" y="195"/>
                      </a:lnTo>
                      <a:lnTo>
                        <a:pt x="958" y="200"/>
                      </a:lnTo>
                      <a:lnTo>
                        <a:pt x="968" y="204"/>
                      </a:lnTo>
                      <a:lnTo>
                        <a:pt x="976" y="209"/>
                      </a:lnTo>
                      <a:lnTo>
                        <a:pt x="985" y="213"/>
                      </a:lnTo>
                      <a:lnTo>
                        <a:pt x="993" y="219"/>
                      </a:lnTo>
                      <a:lnTo>
                        <a:pt x="1002" y="224"/>
                      </a:lnTo>
                      <a:lnTo>
                        <a:pt x="1010" y="229"/>
                      </a:lnTo>
                      <a:lnTo>
                        <a:pt x="1018" y="235"/>
                      </a:lnTo>
                      <a:lnTo>
                        <a:pt x="1030" y="244"/>
                      </a:lnTo>
                      <a:lnTo>
                        <a:pt x="1140" y="159"/>
                      </a:lnTo>
                      <a:lnTo>
                        <a:pt x="1146" y="164"/>
                      </a:lnTo>
                      <a:lnTo>
                        <a:pt x="1151" y="168"/>
                      </a:lnTo>
                      <a:lnTo>
                        <a:pt x="1157" y="173"/>
                      </a:lnTo>
                      <a:lnTo>
                        <a:pt x="1161" y="178"/>
                      </a:lnTo>
                      <a:lnTo>
                        <a:pt x="1167" y="182"/>
                      </a:lnTo>
                      <a:lnTo>
                        <a:pt x="1171" y="187"/>
                      </a:lnTo>
                      <a:lnTo>
                        <a:pt x="1177" y="191"/>
                      </a:lnTo>
                      <a:lnTo>
                        <a:pt x="1182" y="196"/>
                      </a:lnTo>
                      <a:lnTo>
                        <a:pt x="1110" y="317"/>
                      </a:lnTo>
                      <a:lnTo>
                        <a:pt x="1120" y="327"/>
                      </a:lnTo>
                      <a:lnTo>
                        <a:pt x="1127" y="334"/>
                      </a:lnTo>
                      <a:lnTo>
                        <a:pt x="1132" y="342"/>
                      </a:lnTo>
                      <a:lnTo>
                        <a:pt x="1138" y="350"/>
                      </a:lnTo>
                      <a:lnTo>
                        <a:pt x="1144" y="357"/>
                      </a:lnTo>
                      <a:lnTo>
                        <a:pt x="1150" y="365"/>
                      </a:lnTo>
                      <a:lnTo>
                        <a:pt x="1155" y="374"/>
                      </a:lnTo>
                      <a:lnTo>
                        <a:pt x="1160" y="382"/>
                      </a:lnTo>
                      <a:lnTo>
                        <a:pt x="1166" y="390"/>
                      </a:lnTo>
                      <a:lnTo>
                        <a:pt x="1174" y="402"/>
                      </a:lnTo>
                      <a:lnTo>
                        <a:pt x="1310" y="364"/>
                      </a:lnTo>
                      <a:lnTo>
                        <a:pt x="1317" y="377"/>
                      </a:lnTo>
                      <a:lnTo>
                        <a:pt x="1323" y="390"/>
                      </a:lnTo>
                      <a:lnTo>
                        <a:pt x="1329" y="402"/>
                      </a:lnTo>
                      <a:lnTo>
                        <a:pt x="1335" y="416"/>
                      </a:lnTo>
                      <a:lnTo>
                        <a:pt x="1222" y="501"/>
                      </a:lnTo>
                      <a:lnTo>
                        <a:pt x="1227" y="515"/>
                      </a:lnTo>
                      <a:lnTo>
                        <a:pt x="1231" y="533"/>
                      </a:lnTo>
                      <a:lnTo>
                        <a:pt x="1237" y="551"/>
                      </a:lnTo>
                      <a:lnTo>
                        <a:pt x="1242" y="569"/>
                      </a:lnTo>
                      <a:lnTo>
                        <a:pt x="1245" y="588"/>
                      </a:lnTo>
                      <a:lnTo>
                        <a:pt x="1247" y="603"/>
                      </a:lnTo>
                      <a:lnTo>
                        <a:pt x="1390" y="620"/>
                      </a:lnTo>
                      <a:lnTo>
                        <a:pt x="1391" y="634"/>
                      </a:lnTo>
                      <a:lnTo>
                        <a:pt x="1393" y="648"/>
                      </a:lnTo>
                      <a:lnTo>
                        <a:pt x="1394" y="663"/>
                      </a:lnTo>
                      <a:lnTo>
                        <a:pt x="1395" y="677"/>
                      </a:lnTo>
                      <a:lnTo>
                        <a:pt x="1254" y="713"/>
                      </a:lnTo>
                      <a:lnTo>
                        <a:pt x="1253" y="727"/>
                      </a:lnTo>
                      <a:lnTo>
                        <a:pt x="1252" y="746"/>
                      </a:lnTo>
                      <a:lnTo>
                        <a:pt x="1250" y="764"/>
                      </a:lnTo>
                      <a:lnTo>
                        <a:pt x="1247" y="783"/>
                      </a:lnTo>
                      <a:lnTo>
                        <a:pt x="1244" y="801"/>
                      </a:lnTo>
                      <a:lnTo>
                        <a:pt x="1241" y="816"/>
                      </a:lnTo>
                      <a:lnTo>
                        <a:pt x="1368" y="889"/>
                      </a:lnTo>
                      <a:lnTo>
                        <a:pt x="1364" y="902"/>
                      </a:lnTo>
                      <a:lnTo>
                        <a:pt x="1360" y="916"/>
                      </a:lnTo>
                      <a:lnTo>
                        <a:pt x="1356" y="929"/>
                      </a:lnTo>
                      <a:lnTo>
                        <a:pt x="1351" y="942"/>
                      </a:lnTo>
                      <a:lnTo>
                        <a:pt x="1205" y="921"/>
                      </a:lnTo>
                      <a:lnTo>
                        <a:pt x="1199" y="935"/>
                      </a:lnTo>
                      <a:lnTo>
                        <a:pt x="1195" y="943"/>
                      </a:lnTo>
                      <a:lnTo>
                        <a:pt x="1190" y="952"/>
                      </a:lnTo>
                      <a:lnTo>
                        <a:pt x="1186" y="960"/>
                      </a:lnTo>
                      <a:lnTo>
                        <a:pt x="1182" y="968"/>
                      </a:lnTo>
                      <a:lnTo>
                        <a:pt x="1177" y="976"/>
                      </a:lnTo>
                      <a:lnTo>
                        <a:pt x="1173" y="984"/>
                      </a:lnTo>
                      <a:lnTo>
                        <a:pt x="1167" y="992"/>
                      </a:lnTo>
                      <a:lnTo>
                        <a:pt x="1162" y="999"/>
                      </a:lnTo>
                      <a:lnTo>
                        <a:pt x="1154" y="1012"/>
                      </a:lnTo>
                      <a:lnTo>
                        <a:pt x="1246" y="1129"/>
                      </a:lnTo>
                      <a:lnTo>
                        <a:pt x="1242" y="1134"/>
                      </a:lnTo>
                      <a:lnTo>
                        <a:pt x="1237" y="1140"/>
                      </a:lnTo>
                      <a:lnTo>
                        <a:pt x="1233" y="1144"/>
                      </a:lnTo>
                      <a:lnTo>
                        <a:pt x="1229" y="1150"/>
                      </a:lnTo>
                      <a:lnTo>
                        <a:pt x="1224" y="1155"/>
                      </a:lnTo>
                      <a:lnTo>
                        <a:pt x="1220" y="1161"/>
                      </a:lnTo>
                      <a:lnTo>
                        <a:pt x="1215" y="1165"/>
                      </a:lnTo>
                      <a:lnTo>
                        <a:pt x="1211" y="1171"/>
                      </a:lnTo>
                      <a:lnTo>
                        <a:pt x="1083" y="1095"/>
                      </a:lnTo>
                      <a:lnTo>
                        <a:pt x="1071" y="1105"/>
                      </a:lnTo>
                      <a:lnTo>
                        <a:pt x="1064" y="1112"/>
                      </a:lnTo>
                      <a:lnTo>
                        <a:pt x="1056" y="1118"/>
                      </a:lnTo>
                      <a:lnTo>
                        <a:pt x="1049" y="1124"/>
                      </a:lnTo>
                      <a:lnTo>
                        <a:pt x="1041" y="1131"/>
                      </a:lnTo>
                      <a:lnTo>
                        <a:pt x="1034" y="1136"/>
                      </a:lnTo>
                      <a:lnTo>
                        <a:pt x="1026" y="1142"/>
                      </a:lnTo>
                      <a:lnTo>
                        <a:pt x="1019" y="1147"/>
                      </a:lnTo>
                      <a:lnTo>
                        <a:pt x="1011" y="1153"/>
                      </a:lnTo>
                      <a:lnTo>
                        <a:pt x="1000" y="1161"/>
                      </a:lnTo>
                      <a:lnTo>
                        <a:pt x="1039" y="1306"/>
                      </a:lnTo>
                      <a:lnTo>
                        <a:pt x="1033" y="1309"/>
                      </a:lnTo>
                      <a:lnTo>
                        <a:pt x="1028" y="1313"/>
                      </a:lnTo>
                      <a:lnTo>
                        <a:pt x="1022" y="1316"/>
                      </a:lnTo>
                      <a:lnTo>
                        <a:pt x="1016" y="1318"/>
                      </a:lnTo>
                      <a:lnTo>
                        <a:pt x="1010" y="1322"/>
                      </a:lnTo>
                      <a:lnTo>
                        <a:pt x="1003" y="1324"/>
                      </a:lnTo>
                      <a:lnTo>
                        <a:pt x="998" y="1328"/>
                      </a:lnTo>
                      <a:lnTo>
                        <a:pt x="992" y="1330"/>
                      </a:lnTo>
                      <a:lnTo>
                        <a:pt x="902" y="1211"/>
                      </a:lnTo>
                      <a:lnTo>
                        <a:pt x="888" y="1216"/>
                      </a:lnTo>
                      <a:lnTo>
                        <a:pt x="879" y="1219"/>
                      </a:lnTo>
                      <a:lnTo>
                        <a:pt x="870" y="1223"/>
                      </a:lnTo>
                      <a:lnTo>
                        <a:pt x="859" y="1225"/>
                      </a:lnTo>
                      <a:lnTo>
                        <a:pt x="850" y="1229"/>
                      </a:lnTo>
                      <a:lnTo>
                        <a:pt x="841" y="1231"/>
                      </a:lnTo>
                      <a:lnTo>
                        <a:pt x="832" y="1233"/>
                      </a:lnTo>
                      <a:lnTo>
                        <a:pt x="821" y="1235"/>
                      </a:lnTo>
                      <a:lnTo>
                        <a:pt x="812" y="1238"/>
                      </a:lnTo>
                      <a:lnTo>
                        <a:pt x="798" y="1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15920" y="5256720"/>
                  <a:ext cx="360360" cy="372240"/>
                </a:xfrm>
                <a:custGeom>
                  <a:avLst/>
                  <a:gdLst/>
                  <a:ahLst/>
                  <a:rect l="l" t="t" r="r" b="b"/>
                  <a:pathLst>
                    <a:path w="592" h="593">
                      <a:moveTo>
                        <a:pt x="133" y="544"/>
                      </a:moveTo>
                      <a:lnTo>
                        <a:pt x="87" y="506"/>
                      </a:lnTo>
                      <a:lnTo>
                        <a:pt x="50" y="459"/>
                      </a:lnTo>
                      <a:lnTo>
                        <a:pt x="23" y="409"/>
                      </a:lnTo>
                      <a:lnTo>
                        <a:pt x="7" y="355"/>
                      </a:lnTo>
                      <a:lnTo>
                        <a:pt x="0" y="298"/>
                      </a:lnTo>
                      <a:lnTo>
                        <a:pt x="6" y="240"/>
                      </a:lnTo>
                      <a:lnTo>
                        <a:pt x="22" y="185"/>
                      </a:lnTo>
                      <a:lnTo>
                        <a:pt x="50" y="132"/>
                      </a:lnTo>
                      <a:lnTo>
                        <a:pt x="59" y="121"/>
                      </a:lnTo>
                      <a:lnTo>
                        <a:pt x="67" y="108"/>
                      </a:lnTo>
                      <a:lnTo>
                        <a:pt x="77" y="98"/>
                      </a:lnTo>
                      <a:lnTo>
                        <a:pt x="88" y="87"/>
                      </a:lnTo>
                      <a:lnTo>
                        <a:pt x="98" y="77"/>
                      </a:lnTo>
                      <a:lnTo>
                        <a:pt x="109" y="68"/>
                      </a:lnTo>
                      <a:lnTo>
                        <a:pt x="120" y="58"/>
                      </a:lnTo>
                      <a:lnTo>
                        <a:pt x="132" y="50"/>
                      </a:lnTo>
                      <a:lnTo>
                        <a:pt x="143" y="42"/>
                      </a:lnTo>
                      <a:lnTo>
                        <a:pt x="156" y="35"/>
                      </a:lnTo>
                      <a:lnTo>
                        <a:pt x="168" y="28"/>
                      </a:lnTo>
                      <a:lnTo>
                        <a:pt x="182" y="23"/>
                      </a:lnTo>
                      <a:lnTo>
                        <a:pt x="195" y="17"/>
                      </a:lnTo>
                      <a:lnTo>
                        <a:pt x="209" y="12"/>
                      </a:lnTo>
                      <a:lnTo>
                        <a:pt x="224" y="9"/>
                      </a:lnTo>
                      <a:lnTo>
                        <a:pt x="238" y="5"/>
                      </a:lnTo>
                      <a:lnTo>
                        <a:pt x="253" y="3"/>
                      </a:lnTo>
                      <a:lnTo>
                        <a:pt x="266" y="1"/>
                      </a:lnTo>
                      <a:lnTo>
                        <a:pt x="281" y="0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4" y="1"/>
                      </a:lnTo>
                      <a:lnTo>
                        <a:pt x="339" y="3"/>
                      </a:lnTo>
                      <a:lnTo>
                        <a:pt x="353" y="5"/>
                      </a:lnTo>
                      <a:lnTo>
                        <a:pt x="367" y="9"/>
                      </a:lnTo>
                      <a:lnTo>
                        <a:pt x="381" y="12"/>
                      </a:lnTo>
                      <a:lnTo>
                        <a:pt x="394" y="17"/>
                      </a:lnTo>
                      <a:lnTo>
                        <a:pt x="408" y="22"/>
                      </a:lnTo>
                      <a:lnTo>
                        <a:pt x="422" y="27"/>
                      </a:lnTo>
                      <a:lnTo>
                        <a:pt x="434" y="34"/>
                      </a:lnTo>
                      <a:lnTo>
                        <a:pt x="447" y="41"/>
                      </a:lnTo>
                      <a:lnTo>
                        <a:pt x="460" y="49"/>
                      </a:lnTo>
                      <a:lnTo>
                        <a:pt x="506" y="87"/>
                      </a:lnTo>
                      <a:lnTo>
                        <a:pt x="543" y="133"/>
                      </a:lnTo>
                      <a:lnTo>
                        <a:pt x="569" y="184"/>
                      </a:lnTo>
                      <a:lnTo>
                        <a:pt x="586" y="238"/>
                      </a:lnTo>
                      <a:lnTo>
                        <a:pt x="592" y="295"/>
                      </a:lnTo>
                      <a:lnTo>
                        <a:pt x="586" y="352"/>
                      </a:lnTo>
                      <a:lnTo>
                        <a:pt x="570" y="408"/>
                      </a:lnTo>
                      <a:lnTo>
                        <a:pt x="543" y="461"/>
                      </a:lnTo>
                      <a:lnTo>
                        <a:pt x="535" y="472"/>
                      </a:lnTo>
                      <a:lnTo>
                        <a:pt x="525" y="485"/>
                      </a:lnTo>
                      <a:lnTo>
                        <a:pt x="516" y="495"/>
                      </a:lnTo>
                      <a:lnTo>
                        <a:pt x="506" y="506"/>
                      </a:lnTo>
                      <a:lnTo>
                        <a:pt x="495" y="516"/>
                      </a:lnTo>
                      <a:lnTo>
                        <a:pt x="484" y="525"/>
                      </a:lnTo>
                      <a:lnTo>
                        <a:pt x="472" y="534"/>
                      </a:lnTo>
                      <a:lnTo>
                        <a:pt x="461" y="542"/>
                      </a:lnTo>
                      <a:lnTo>
                        <a:pt x="449" y="550"/>
                      </a:lnTo>
                      <a:lnTo>
                        <a:pt x="437" y="557"/>
                      </a:lnTo>
                      <a:lnTo>
                        <a:pt x="424" y="564"/>
                      </a:lnTo>
                      <a:lnTo>
                        <a:pt x="410" y="570"/>
                      </a:lnTo>
                      <a:lnTo>
                        <a:pt x="396" y="576"/>
                      </a:lnTo>
                      <a:lnTo>
                        <a:pt x="383" y="580"/>
                      </a:lnTo>
                      <a:lnTo>
                        <a:pt x="369" y="584"/>
                      </a:lnTo>
                      <a:lnTo>
                        <a:pt x="354" y="587"/>
                      </a:lnTo>
                      <a:lnTo>
                        <a:pt x="339" y="590"/>
                      </a:lnTo>
                      <a:lnTo>
                        <a:pt x="325" y="592"/>
                      </a:lnTo>
                      <a:lnTo>
                        <a:pt x="310" y="593"/>
                      </a:lnTo>
                      <a:lnTo>
                        <a:pt x="296" y="593"/>
                      </a:lnTo>
                      <a:lnTo>
                        <a:pt x="281" y="593"/>
                      </a:lnTo>
                      <a:lnTo>
                        <a:pt x="267" y="592"/>
                      </a:lnTo>
                      <a:lnTo>
                        <a:pt x="253" y="590"/>
                      </a:lnTo>
                      <a:lnTo>
                        <a:pt x="239" y="587"/>
                      </a:lnTo>
                      <a:lnTo>
                        <a:pt x="225" y="584"/>
                      </a:lnTo>
                      <a:lnTo>
                        <a:pt x="211" y="580"/>
                      </a:lnTo>
                      <a:lnTo>
                        <a:pt x="197" y="576"/>
                      </a:lnTo>
                      <a:lnTo>
                        <a:pt x="183" y="571"/>
                      </a:lnTo>
                      <a:lnTo>
                        <a:pt x="171" y="565"/>
                      </a:lnTo>
                      <a:lnTo>
                        <a:pt x="158" y="559"/>
                      </a:lnTo>
                      <a:lnTo>
                        <a:pt x="145" y="552"/>
                      </a:lnTo>
                      <a:lnTo>
                        <a:pt x="133" y="54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6960600" y="5741280"/>
              <a:ext cx="112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937800" y="2368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ser</a:t>
            </a:r>
            <a:r>
              <a:rPr b="1" lang="en-US" sz="1800" spc="-1" strike="noStrike">
                <a:solidFill>
                  <a:srgbClr val="ffc9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8288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200" y="15238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92680" y="3276720"/>
            <a:ext cx="1113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114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2120" y="4229280"/>
            <a:ext cx="975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362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438280"/>
            <a:ext cx="95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48440" y="2478240"/>
            <a:ext cx="84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40" idx="0"/>
            <a:endCxn id="134" idx="2"/>
          </p:cNvCxnSpPr>
          <p:nvPr/>
        </p:nvCxnSpPr>
        <p:spPr>
          <a:xfrm flipV="1" rot="16200000">
            <a:off x="2698200" y="4653720"/>
            <a:ext cx="940680" cy="77544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"/>
          <p:cNvCxnSpPr>
            <a:stCxn id="140" idx="6"/>
            <a:endCxn id="151" idx="0"/>
          </p:cNvCxnSpPr>
          <p:nvPr/>
        </p:nvCxnSpPr>
        <p:spPr>
          <a:xfrm flipV="1">
            <a:off x="4241880" y="5492160"/>
            <a:ext cx="3342240" cy="32436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69" name=""/>
          <p:cNvCxnSpPr>
            <a:stCxn id="140" idx="6"/>
          </p:cNvCxnSpPr>
          <p:nvPr/>
        </p:nvCxnSpPr>
        <p:spPr>
          <a:xfrm flipV="1">
            <a:off x="4241880" y="4890240"/>
            <a:ext cx="1016640" cy="926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70" name=""/>
          <p:cNvSpPr/>
          <p:nvPr/>
        </p:nvSpPr>
        <p:spPr>
          <a:xfrm>
            <a:off x="4340880" y="6045120"/>
            <a:ext cx="98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37" idx="3"/>
            <a:endCxn id="151" idx="1"/>
          </p:cNvCxnSpPr>
          <p:nvPr/>
        </p:nvCxnSpPr>
        <p:spPr>
          <a:xfrm>
            <a:off x="6946560" y="2018880"/>
            <a:ext cx="1159560" cy="2880360"/>
          </a:xfrm>
          <a:prstGeom prst="curvedConnector5">
            <a:avLst>
              <a:gd name="adj1" fmla="val 122857"/>
              <a:gd name="adj2" fmla="val 50000"/>
              <a:gd name="adj3" fmla="val 12285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58800" y="1432080"/>
            <a:ext cx="7736040" cy="133668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" y="5302080"/>
            <a:ext cx="7736040" cy="140040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0880" y="2917800"/>
            <a:ext cx="7736040" cy="224172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8080" y="1778040"/>
            <a:ext cx="1220760" cy="590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56000" y="13842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48480" y="29304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siness Proces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22080" y="53020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ces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87760" y="1673280"/>
            <a:ext cx="122076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880" y="3092400"/>
            <a:ext cx="1569960" cy="198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17720" y="3092400"/>
            <a:ext cx="9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0880" y="39607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0880" y="363204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0880" y="42973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2320" y="5730840"/>
            <a:ext cx="1544760" cy="590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NET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80320" y="5783400"/>
            <a:ext cx="1139760" cy="617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1880" y="568476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5600" y="5689440"/>
            <a:ext cx="10382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194000" y="1697040"/>
            <a:ext cx="1409760" cy="733320"/>
            <a:chOff x="4194000" y="1697040"/>
            <a:chExt cx="1409760" cy="733320"/>
          </a:xfrm>
        </p:grpSpPr>
        <p:sp>
          <p:nvSpPr>
            <p:cNvPr id="190" name=""/>
            <p:cNvSpPr/>
            <p:nvPr/>
          </p:nvSpPr>
          <p:spPr>
            <a:xfrm>
              <a:off x="4383000" y="16970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95520" y="17668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4000" y="18399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5880" y="170640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8120" y="179388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38920" y="1881360"/>
            <a:ext cx="186840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9080" y="4624560"/>
            <a:ext cx="1220760" cy="331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84400" y="4278240"/>
            <a:ext cx="1409760" cy="733320"/>
            <a:chOff x="2984400" y="4278240"/>
            <a:chExt cx="1409760" cy="733320"/>
          </a:xfrm>
        </p:grpSpPr>
        <p:sp>
          <p:nvSpPr>
            <p:cNvPr id="198" name=""/>
            <p:cNvSpPr/>
            <p:nvPr/>
          </p:nvSpPr>
          <p:spPr>
            <a:xfrm>
              <a:off x="3173400" y="42782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5920" y="4348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4400" y="44211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126040" y="3376440"/>
            <a:ext cx="1409760" cy="733320"/>
            <a:chOff x="5126040" y="3376440"/>
            <a:chExt cx="1409760" cy="733320"/>
          </a:xfrm>
        </p:grpSpPr>
        <p:sp>
          <p:nvSpPr>
            <p:cNvPr id="202" name=""/>
            <p:cNvSpPr/>
            <p:nvPr/>
          </p:nvSpPr>
          <p:spPr>
            <a:xfrm>
              <a:off x="5315040" y="33764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27560" y="34462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26040" y="35193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ray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715080" y="3394080"/>
            <a:ext cx="1409760" cy="733320"/>
            <a:chOff x="6715080" y="3394080"/>
            <a:chExt cx="1409760" cy="733320"/>
          </a:xfrm>
        </p:grpSpPr>
        <p:sp>
          <p:nvSpPr>
            <p:cNvPr id="206" name=""/>
            <p:cNvSpPr/>
            <p:nvPr/>
          </p:nvSpPr>
          <p:spPr>
            <a:xfrm>
              <a:off x="6904080" y="3394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16600" y="34639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15080" y="35370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108400" y="4281480"/>
            <a:ext cx="1409760" cy="733320"/>
            <a:chOff x="5108400" y="4281480"/>
            <a:chExt cx="1409760" cy="733320"/>
          </a:xfrm>
        </p:grpSpPr>
        <p:sp>
          <p:nvSpPr>
            <p:cNvPr id="210" name=""/>
            <p:cNvSpPr/>
            <p:nvPr/>
          </p:nvSpPr>
          <p:spPr>
            <a:xfrm>
              <a:off x="52974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099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84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723000" y="4281480"/>
            <a:ext cx="1409760" cy="733320"/>
            <a:chOff x="6723000" y="4281480"/>
            <a:chExt cx="1409760" cy="733320"/>
          </a:xfrm>
        </p:grpSpPr>
        <p:sp>
          <p:nvSpPr>
            <p:cNvPr id="214" name=""/>
            <p:cNvSpPr/>
            <p:nvPr/>
          </p:nvSpPr>
          <p:spPr>
            <a:xfrm>
              <a:off x="69120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245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30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992320" y="3220920"/>
            <a:ext cx="140508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4000" y="568800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0280" y="806400"/>
            <a:ext cx="72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IOC Architecture – Engineering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87520" y="2517840"/>
            <a:ext cx="961920" cy="96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5880" y="1644120"/>
            <a:ext cx="71168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GEOSS Architecture</a:t>
            </a:r>
            <a:br>
              <a:rPr sz="1600"/>
            </a:br>
            <a:r>
              <a:rPr b="1" lang="en-US" sz="1600" spc="-1" strike="noStrike">
                <a:solidFill>
                  <a:srgbClr val="005faa"/>
                </a:solidFill>
                <a:latin typeface="Arial"/>
              </a:rPr>
              <a:t> for the Air Quality Community (Feb 2008)</a:t>
            </a:r>
            <a:endParaRPr b="1" lang="en-US" sz="1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14440" y="4219560"/>
            <a:ext cx="1370160" cy="65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n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81400" y="2687760"/>
            <a:ext cx="1420920" cy="63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05120" y="3510000"/>
            <a:ext cx="848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6760" y="5491080"/>
            <a:ext cx="1244880" cy="785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04640" y="5473800"/>
            <a:ext cx="82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19560" y="4206960"/>
            <a:ext cx="1352520" cy="70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02280" y="5543640"/>
            <a:ext cx="1390320" cy="720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767640" y="2489040"/>
            <a:ext cx="1258560" cy="1000080"/>
            <a:chOff x="6767640" y="2489040"/>
            <a:chExt cx="1258560" cy="1000080"/>
          </a:xfrm>
        </p:grpSpPr>
        <p:sp>
          <p:nvSpPr>
            <p:cNvPr id="230" name=""/>
            <p:cNvSpPr/>
            <p:nvPr/>
          </p:nvSpPr>
          <p:spPr>
            <a:xfrm>
              <a:off x="6767640" y="2532600"/>
              <a:ext cx="1187280" cy="95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40360" y="2737800"/>
              <a:ext cx="538560" cy="48240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96600" y="2877120"/>
              <a:ext cx="226080" cy="20340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70200" y="2940120"/>
              <a:ext cx="538560" cy="482040"/>
            </a:xfrm>
            <a:custGeom>
              <a:avLst/>
              <a:gdLst/>
              <a:ahLst/>
              <a:rect l="l" t="t" r="r" b="b"/>
              <a:pathLst>
                <a:path w="1395" h="1396">
                  <a:moveTo>
                    <a:pt x="798" y="1241"/>
                  </a:moveTo>
                  <a:lnTo>
                    <a:pt x="779" y="1391"/>
                  </a:lnTo>
                  <a:lnTo>
                    <a:pt x="772" y="1392"/>
                  </a:lnTo>
                  <a:lnTo>
                    <a:pt x="766" y="1392"/>
                  </a:lnTo>
                  <a:lnTo>
                    <a:pt x="759" y="1393"/>
                  </a:lnTo>
                  <a:lnTo>
                    <a:pt x="753" y="1393"/>
                  </a:lnTo>
                  <a:lnTo>
                    <a:pt x="748" y="1395"/>
                  </a:lnTo>
                  <a:lnTo>
                    <a:pt x="741" y="1395"/>
                  </a:lnTo>
                  <a:lnTo>
                    <a:pt x="735" y="1396"/>
                  </a:lnTo>
                  <a:lnTo>
                    <a:pt x="728" y="1396"/>
                  </a:lnTo>
                  <a:lnTo>
                    <a:pt x="690" y="1250"/>
                  </a:lnTo>
                  <a:lnTo>
                    <a:pt x="675" y="1249"/>
                  </a:lnTo>
                  <a:lnTo>
                    <a:pt x="665" y="1249"/>
                  </a:lnTo>
                  <a:lnTo>
                    <a:pt x="654" y="1248"/>
                  </a:lnTo>
                  <a:lnTo>
                    <a:pt x="644" y="1248"/>
                  </a:lnTo>
                  <a:lnTo>
                    <a:pt x="635" y="1247"/>
                  </a:lnTo>
                  <a:lnTo>
                    <a:pt x="624" y="1246"/>
                  </a:lnTo>
                  <a:lnTo>
                    <a:pt x="614" y="1244"/>
                  </a:lnTo>
                  <a:lnTo>
                    <a:pt x="604" y="1242"/>
                  </a:lnTo>
                  <a:lnTo>
                    <a:pt x="593" y="1240"/>
                  </a:lnTo>
                  <a:lnTo>
                    <a:pt x="580" y="1238"/>
                  </a:lnTo>
                  <a:lnTo>
                    <a:pt x="506" y="1369"/>
                  </a:lnTo>
                  <a:lnTo>
                    <a:pt x="498" y="1367"/>
                  </a:lnTo>
                  <a:lnTo>
                    <a:pt x="490" y="1363"/>
                  </a:lnTo>
                  <a:lnTo>
                    <a:pt x="482" y="1361"/>
                  </a:lnTo>
                  <a:lnTo>
                    <a:pt x="474" y="1359"/>
                  </a:lnTo>
                  <a:lnTo>
                    <a:pt x="470" y="1358"/>
                  </a:lnTo>
                  <a:lnTo>
                    <a:pt x="467" y="1356"/>
                  </a:lnTo>
                  <a:lnTo>
                    <a:pt x="463" y="1355"/>
                  </a:lnTo>
                  <a:lnTo>
                    <a:pt x="459" y="1354"/>
                  </a:lnTo>
                  <a:lnTo>
                    <a:pt x="479" y="1206"/>
                  </a:lnTo>
                  <a:lnTo>
                    <a:pt x="466" y="1200"/>
                  </a:lnTo>
                  <a:lnTo>
                    <a:pt x="455" y="1195"/>
                  </a:lnTo>
                  <a:lnTo>
                    <a:pt x="446" y="1191"/>
                  </a:lnTo>
                  <a:lnTo>
                    <a:pt x="437" y="1186"/>
                  </a:lnTo>
                  <a:lnTo>
                    <a:pt x="426" y="1180"/>
                  </a:lnTo>
                  <a:lnTo>
                    <a:pt x="417" y="1174"/>
                  </a:lnTo>
                  <a:lnTo>
                    <a:pt x="408" y="1170"/>
                  </a:lnTo>
                  <a:lnTo>
                    <a:pt x="399" y="1164"/>
                  </a:lnTo>
                  <a:lnTo>
                    <a:pt x="390" y="1158"/>
                  </a:lnTo>
                  <a:lnTo>
                    <a:pt x="378" y="1150"/>
                  </a:lnTo>
                  <a:lnTo>
                    <a:pt x="261" y="1241"/>
                  </a:lnTo>
                  <a:lnTo>
                    <a:pt x="256" y="1238"/>
                  </a:lnTo>
                  <a:lnTo>
                    <a:pt x="251" y="1233"/>
                  </a:lnTo>
                  <a:lnTo>
                    <a:pt x="247" y="1230"/>
                  </a:lnTo>
                  <a:lnTo>
                    <a:pt x="242" y="1225"/>
                  </a:lnTo>
                  <a:lnTo>
                    <a:pt x="238" y="1222"/>
                  </a:lnTo>
                  <a:lnTo>
                    <a:pt x="233" y="1218"/>
                  </a:lnTo>
                  <a:lnTo>
                    <a:pt x="228" y="1214"/>
                  </a:lnTo>
                  <a:lnTo>
                    <a:pt x="224" y="1210"/>
                  </a:lnTo>
                  <a:lnTo>
                    <a:pt x="299" y="1082"/>
                  </a:lnTo>
                  <a:lnTo>
                    <a:pt x="288" y="1072"/>
                  </a:lnTo>
                  <a:lnTo>
                    <a:pt x="281" y="1064"/>
                  </a:lnTo>
                  <a:lnTo>
                    <a:pt x="273" y="1056"/>
                  </a:lnTo>
                  <a:lnTo>
                    <a:pt x="266" y="1047"/>
                  </a:lnTo>
                  <a:lnTo>
                    <a:pt x="259" y="1038"/>
                  </a:lnTo>
                  <a:lnTo>
                    <a:pt x="253" y="1029"/>
                  </a:lnTo>
                  <a:lnTo>
                    <a:pt x="246" y="1020"/>
                  </a:lnTo>
                  <a:lnTo>
                    <a:pt x="240" y="1011"/>
                  </a:lnTo>
                  <a:lnTo>
                    <a:pt x="233" y="1002"/>
                  </a:lnTo>
                  <a:lnTo>
                    <a:pt x="225" y="990"/>
                  </a:lnTo>
                  <a:lnTo>
                    <a:pt x="84" y="1028"/>
                  </a:lnTo>
                  <a:lnTo>
                    <a:pt x="79" y="1018"/>
                  </a:lnTo>
                  <a:lnTo>
                    <a:pt x="73" y="1007"/>
                  </a:lnTo>
                  <a:lnTo>
                    <a:pt x="68" y="997"/>
                  </a:lnTo>
                  <a:lnTo>
                    <a:pt x="63" y="985"/>
                  </a:lnTo>
                  <a:lnTo>
                    <a:pt x="179" y="898"/>
                  </a:lnTo>
                  <a:lnTo>
                    <a:pt x="173" y="884"/>
                  </a:lnTo>
                  <a:lnTo>
                    <a:pt x="166" y="862"/>
                  </a:lnTo>
                  <a:lnTo>
                    <a:pt x="159" y="840"/>
                  </a:lnTo>
                  <a:lnTo>
                    <a:pt x="153" y="817"/>
                  </a:lnTo>
                  <a:lnTo>
                    <a:pt x="149" y="795"/>
                  </a:lnTo>
                  <a:lnTo>
                    <a:pt x="147" y="781"/>
                  </a:lnTo>
                  <a:lnTo>
                    <a:pt x="4" y="764"/>
                  </a:lnTo>
                  <a:lnTo>
                    <a:pt x="3" y="752"/>
                  </a:lnTo>
                  <a:lnTo>
                    <a:pt x="1" y="740"/>
                  </a:lnTo>
                  <a:lnTo>
                    <a:pt x="1" y="727"/>
                  </a:lnTo>
                  <a:lnTo>
                    <a:pt x="0" y="716"/>
                  </a:lnTo>
                  <a:lnTo>
                    <a:pt x="139" y="679"/>
                  </a:lnTo>
                  <a:lnTo>
                    <a:pt x="140" y="665"/>
                  </a:lnTo>
                  <a:lnTo>
                    <a:pt x="141" y="642"/>
                  </a:lnTo>
                  <a:lnTo>
                    <a:pt x="144" y="619"/>
                  </a:lnTo>
                  <a:lnTo>
                    <a:pt x="147" y="596"/>
                  </a:lnTo>
                  <a:lnTo>
                    <a:pt x="151" y="573"/>
                  </a:lnTo>
                  <a:lnTo>
                    <a:pt x="155" y="559"/>
                  </a:lnTo>
                  <a:lnTo>
                    <a:pt x="33" y="489"/>
                  </a:lnTo>
                  <a:lnTo>
                    <a:pt x="34" y="484"/>
                  </a:lnTo>
                  <a:lnTo>
                    <a:pt x="35" y="481"/>
                  </a:lnTo>
                  <a:lnTo>
                    <a:pt x="36" y="477"/>
                  </a:lnTo>
                  <a:lnTo>
                    <a:pt x="37" y="473"/>
                  </a:lnTo>
                  <a:lnTo>
                    <a:pt x="39" y="466"/>
                  </a:lnTo>
                  <a:lnTo>
                    <a:pt x="43" y="458"/>
                  </a:lnTo>
                  <a:lnTo>
                    <a:pt x="45" y="451"/>
                  </a:lnTo>
                  <a:lnTo>
                    <a:pt x="49" y="443"/>
                  </a:lnTo>
                  <a:lnTo>
                    <a:pt x="188" y="462"/>
                  </a:lnTo>
                  <a:lnTo>
                    <a:pt x="194" y="450"/>
                  </a:lnTo>
                  <a:lnTo>
                    <a:pt x="200" y="439"/>
                  </a:lnTo>
                  <a:lnTo>
                    <a:pt x="204" y="429"/>
                  </a:lnTo>
                  <a:lnTo>
                    <a:pt x="210" y="418"/>
                  </a:lnTo>
                  <a:lnTo>
                    <a:pt x="216" y="408"/>
                  </a:lnTo>
                  <a:lnTo>
                    <a:pt x="221" y="399"/>
                  </a:lnTo>
                  <a:lnTo>
                    <a:pt x="228" y="389"/>
                  </a:lnTo>
                  <a:lnTo>
                    <a:pt x="234" y="379"/>
                  </a:lnTo>
                  <a:lnTo>
                    <a:pt x="241" y="370"/>
                  </a:lnTo>
                  <a:lnTo>
                    <a:pt x="249" y="357"/>
                  </a:lnTo>
                  <a:lnTo>
                    <a:pt x="164" y="249"/>
                  </a:lnTo>
                  <a:lnTo>
                    <a:pt x="167" y="244"/>
                  </a:lnTo>
                  <a:lnTo>
                    <a:pt x="172" y="240"/>
                  </a:lnTo>
                  <a:lnTo>
                    <a:pt x="177" y="235"/>
                  </a:lnTo>
                  <a:lnTo>
                    <a:pt x="180" y="231"/>
                  </a:lnTo>
                  <a:lnTo>
                    <a:pt x="185" y="226"/>
                  </a:lnTo>
                  <a:lnTo>
                    <a:pt x="189" y="221"/>
                  </a:lnTo>
                  <a:lnTo>
                    <a:pt x="194" y="217"/>
                  </a:lnTo>
                  <a:lnTo>
                    <a:pt x="198" y="212"/>
                  </a:lnTo>
                  <a:lnTo>
                    <a:pt x="318" y="281"/>
                  </a:lnTo>
                  <a:lnTo>
                    <a:pt x="329" y="272"/>
                  </a:lnTo>
                  <a:lnTo>
                    <a:pt x="338" y="264"/>
                  </a:lnTo>
                  <a:lnTo>
                    <a:pt x="346" y="257"/>
                  </a:lnTo>
                  <a:lnTo>
                    <a:pt x="355" y="250"/>
                  </a:lnTo>
                  <a:lnTo>
                    <a:pt x="364" y="243"/>
                  </a:lnTo>
                  <a:lnTo>
                    <a:pt x="373" y="238"/>
                  </a:lnTo>
                  <a:lnTo>
                    <a:pt x="383" y="232"/>
                  </a:lnTo>
                  <a:lnTo>
                    <a:pt x="392" y="225"/>
                  </a:lnTo>
                  <a:lnTo>
                    <a:pt x="401" y="219"/>
                  </a:lnTo>
                  <a:lnTo>
                    <a:pt x="414" y="211"/>
                  </a:lnTo>
                  <a:lnTo>
                    <a:pt x="377" y="79"/>
                  </a:lnTo>
                  <a:lnTo>
                    <a:pt x="383" y="76"/>
                  </a:lnTo>
                  <a:lnTo>
                    <a:pt x="388" y="73"/>
                  </a:lnTo>
                  <a:lnTo>
                    <a:pt x="394" y="70"/>
                  </a:lnTo>
                  <a:lnTo>
                    <a:pt x="400" y="67"/>
                  </a:lnTo>
                  <a:lnTo>
                    <a:pt x="406" y="65"/>
                  </a:lnTo>
                  <a:lnTo>
                    <a:pt x="413" y="62"/>
                  </a:lnTo>
                  <a:lnTo>
                    <a:pt x="418" y="59"/>
                  </a:lnTo>
                  <a:lnTo>
                    <a:pt x="424" y="57"/>
                  </a:lnTo>
                  <a:lnTo>
                    <a:pt x="507" y="167"/>
                  </a:lnTo>
                  <a:lnTo>
                    <a:pt x="521" y="163"/>
                  </a:lnTo>
                  <a:lnTo>
                    <a:pt x="531" y="159"/>
                  </a:lnTo>
                  <a:lnTo>
                    <a:pt x="542" y="156"/>
                  </a:lnTo>
                  <a:lnTo>
                    <a:pt x="552" y="153"/>
                  </a:lnTo>
                  <a:lnTo>
                    <a:pt x="562" y="150"/>
                  </a:lnTo>
                  <a:lnTo>
                    <a:pt x="573" y="148"/>
                  </a:lnTo>
                  <a:lnTo>
                    <a:pt x="583" y="145"/>
                  </a:lnTo>
                  <a:lnTo>
                    <a:pt x="593" y="143"/>
                  </a:lnTo>
                  <a:lnTo>
                    <a:pt x="604" y="141"/>
                  </a:lnTo>
                  <a:lnTo>
                    <a:pt x="619" y="138"/>
                  </a:lnTo>
                  <a:lnTo>
                    <a:pt x="636" y="4"/>
                  </a:lnTo>
                  <a:lnTo>
                    <a:pt x="643" y="2"/>
                  </a:lnTo>
                  <a:lnTo>
                    <a:pt x="649" y="2"/>
                  </a:lnTo>
                  <a:lnTo>
                    <a:pt x="656" y="1"/>
                  </a:lnTo>
                  <a:lnTo>
                    <a:pt x="662" y="1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3" y="0"/>
                  </a:lnTo>
                  <a:lnTo>
                    <a:pt x="690" y="0"/>
                  </a:lnTo>
                  <a:lnTo>
                    <a:pt x="725" y="134"/>
                  </a:lnTo>
                  <a:lnTo>
                    <a:pt x="738" y="135"/>
                  </a:lnTo>
                  <a:lnTo>
                    <a:pt x="749" y="136"/>
                  </a:lnTo>
                  <a:lnTo>
                    <a:pt x="759" y="137"/>
                  </a:lnTo>
                  <a:lnTo>
                    <a:pt x="770" y="138"/>
                  </a:lnTo>
                  <a:lnTo>
                    <a:pt x="780" y="140"/>
                  </a:lnTo>
                  <a:lnTo>
                    <a:pt x="790" y="142"/>
                  </a:lnTo>
                  <a:lnTo>
                    <a:pt x="801" y="143"/>
                  </a:lnTo>
                  <a:lnTo>
                    <a:pt x="811" y="145"/>
                  </a:lnTo>
                  <a:lnTo>
                    <a:pt x="821" y="148"/>
                  </a:lnTo>
                  <a:lnTo>
                    <a:pt x="836" y="151"/>
                  </a:lnTo>
                  <a:lnTo>
                    <a:pt x="904" y="31"/>
                  </a:lnTo>
                  <a:lnTo>
                    <a:pt x="911" y="34"/>
                  </a:lnTo>
                  <a:lnTo>
                    <a:pt x="917" y="36"/>
                  </a:lnTo>
                  <a:lnTo>
                    <a:pt x="923" y="38"/>
                  </a:lnTo>
                  <a:lnTo>
                    <a:pt x="930" y="41"/>
                  </a:lnTo>
                  <a:lnTo>
                    <a:pt x="935" y="43"/>
                  </a:lnTo>
                  <a:lnTo>
                    <a:pt x="942" y="45"/>
                  </a:lnTo>
                  <a:lnTo>
                    <a:pt x="949" y="47"/>
                  </a:lnTo>
                  <a:lnTo>
                    <a:pt x="956" y="50"/>
                  </a:lnTo>
                  <a:lnTo>
                    <a:pt x="937" y="188"/>
                  </a:lnTo>
                  <a:lnTo>
                    <a:pt x="949" y="195"/>
                  </a:lnTo>
                  <a:lnTo>
                    <a:pt x="958" y="200"/>
                  </a:lnTo>
                  <a:lnTo>
                    <a:pt x="968" y="204"/>
                  </a:lnTo>
                  <a:lnTo>
                    <a:pt x="976" y="209"/>
                  </a:lnTo>
                  <a:lnTo>
                    <a:pt x="985" y="213"/>
                  </a:lnTo>
                  <a:lnTo>
                    <a:pt x="993" y="219"/>
                  </a:lnTo>
                  <a:lnTo>
                    <a:pt x="1002" y="224"/>
                  </a:lnTo>
                  <a:lnTo>
                    <a:pt x="1010" y="229"/>
                  </a:lnTo>
                  <a:lnTo>
                    <a:pt x="1018" y="235"/>
                  </a:lnTo>
                  <a:lnTo>
                    <a:pt x="1030" y="244"/>
                  </a:lnTo>
                  <a:lnTo>
                    <a:pt x="1140" y="159"/>
                  </a:lnTo>
                  <a:lnTo>
                    <a:pt x="1146" y="164"/>
                  </a:lnTo>
                  <a:lnTo>
                    <a:pt x="1151" y="168"/>
                  </a:lnTo>
                  <a:lnTo>
                    <a:pt x="1157" y="173"/>
                  </a:lnTo>
                  <a:lnTo>
                    <a:pt x="1161" y="178"/>
                  </a:lnTo>
                  <a:lnTo>
                    <a:pt x="1167" y="182"/>
                  </a:lnTo>
                  <a:lnTo>
                    <a:pt x="1171" y="187"/>
                  </a:lnTo>
                  <a:lnTo>
                    <a:pt x="1177" y="191"/>
                  </a:lnTo>
                  <a:lnTo>
                    <a:pt x="1182" y="196"/>
                  </a:lnTo>
                  <a:lnTo>
                    <a:pt x="1110" y="317"/>
                  </a:lnTo>
                  <a:lnTo>
                    <a:pt x="1120" y="327"/>
                  </a:lnTo>
                  <a:lnTo>
                    <a:pt x="1127" y="334"/>
                  </a:lnTo>
                  <a:lnTo>
                    <a:pt x="1132" y="342"/>
                  </a:lnTo>
                  <a:lnTo>
                    <a:pt x="1138" y="350"/>
                  </a:lnTo>
                  <a:lnTo>
                    <a:pt x="1144" y="357"/>
                  </a:lnTo>
                  <a:lnTo>
                    <a:pt x="1150" y="365"/>
                  </a:lnTo>
                  <a:lnTo>
                    <a:pt x="1155" y="374"/>
                  </a:lnTo>
                  <a:lnTo>
                    <a:pt x="1160" y="382"/>
                  </a:lnTo>
                  <a:lnTo>
                    <a:pt x="1166" y="390"/>
                  </a:lnTo>
                  <a:lnTo>
                    <a:pt x="1174" y="402"/>
                  </a:lnTo>
                  <a:lnTo>
                    <a:pt x="1310" y="364"/>
                  </a:lnTo>
                  <a:lnTo>
                    <a:pt x="1317" y="377"/>
                  </a:lnTo>
                  <a:lnTo>
                    <a:pt x="1323" y="390"/>
                  </a:lnTo>
                  <a:lnTo>
                    <a:pt x="1329" y="402"/>
                  </a:lnTo>
                  <a:lnTo>
                    <a:pt x="1335" y="416"/>
                  </a:lnTo>
                  <a:lnTo>
                    <a:pt x="1222" y="501"/>
                  </a:lnTo>
                  <a:lnTo>
                    <a:pt x="1227" y="515"/>
                  </a:lnTo>
                  <a:lnTo>
                    <a:pt x="1231" y="533"/>
                  </a:lnTo>
                  <a:lnTo>
                    <a:pt x="1237" y="551"/>
                  </a:lnTo>
                  <a:lnTo>
                    <a:pt x="1242" y="569"/>
                  </a:lnTo>
                  <a:lnTo>
                    <a:pt x="1245" y="588"/>
                  </a:lnTo>
                  <a:lnTo>
                    <a:pt x="1247" y="603"/>
                  </a:lnTo>
                  <a:lnTo>
                    <a:pt x="1390" y="620"/>
                  </a:lnTo>
                  <a:lnTo>
                    <a:pt x="1391" y="634"/>
                  </a:lnTo>
                  <a:lnTo>
                    <a:pt x="1393" y="648"/>
                  </a:lnTo>
                  <a:lnTo>
                    <a:pt x="1394" y="663"/>
                  </a:lnTo>
                  <a:lnTo>
                    <a:pt x="1395" y="677"/>
                  </a:lnTo>
                  <a:lnTo>
                    <a:pt x="1254" y="713"/>
                  </a:lnTo>
                  <a:lnTo>
                    <a:pt x="1253" y="727"/>
                  </a:lnTo>
                  <a:lnTo>
                    <a:pt x="1252" y="746"/>
                  </a:lnTo>
                  <a:lnTo>
                    <a:pt x="1250" y="764"/>
                  </a:lnTo>
                  <a:lnTo>
                    <a:pt x="1247" y="783"/>
                  </a:lnTo>
                  <a:lnTo>
                    <a:pt x="1244" y="801"/>
                  </a:lnTo>
                  <a:lnTo>
                    <a:pt x="1241" y="816"/>
                  </a:lnTo>
                  <a:lnTo>
                    <a:pt x="1368" y="889"/>
                  </a:lnTo>
                  <a:lnTo>
                    <a:pt x="1364" y="902"/>
                  </a:lnTo>
                  <a:lnTo>
                    <a:pt x="1360" y="916"/>
                  </a:lnTo>
                  <a:lnTo>
                    <a:pt x="1356" y="929"/>
                  </a:lnTo>
                  <a:lnTo>
                    <a:pt x="1351" y="942"/>
                  </a:lnTo>
                  <a:lnTo>
                    <a:pt x="1205" y="921"/>
                  </a:lnTo>
                  <a:lnTo>
                    <a:pt x="1199" y="935"/>
                  </a:lnTo>
                  <a:lnTo>
                    <a:pt x="1195" y="943"/>
                  </a:lnTo>
                  <a:lnTo>
                    <a:pt x="1190" y="952"/>
                  </a:lnTo>
                  <a:lnTo>
                    <a:pt x="1186" y="960"/>
                  </a:lnTo>
                  <a:lnTo>
                    <a:pt x="1182" y="968"/>
                  </a:lnTo>
                  <a:lnTo>
                    <a:pt x="1177" y="976"/>
                  </a:lnTo>
                  <a:lnTo>
                    <a:pt x="1173" y="984"/>
                  </a:lnTo>
                  <a:lnTo>
                    <a:pt x="1167" y="992"/>
                  </a:lnTo>
                  <a:lnTo>
                    <a:pt x="1162" y="999"/>
                  </a:lnTo>
                  <a:lnTo>
                    <a:pt x="1154" y="1012"/>
                  </a:lnTo>
                  <a:lnTo>
                    <a:pt x="1246" y="1129"/>
                  </a:lnTo>
                  <a:lnTo>
                    <a:pt x="1242" y="1134"/>
                  </a:lnTo>
                  <a:lnTo>
                    <a:pt x="1237" y="1140"/>
                  </a:lnTo>
                  <a:lnTo>
                    <a:pt x="1233" y="1144"/>
                  </a:lnTo>
                  <a:lnTo>
                    <a:pt x="1229" y="1150"/>
                  </a:lnTo>
                  <a:lnTo>
                    <a:pt x="1224" y="1155"/>
                  </a:lnTo>
                  <a:lnTo>
                    <a:pt x="1220" y="1161"/>
                  </a:lnTo>
                  <a:lnTo>
                    <a:pt x="1215" y="1165"/>
                  </a:lnTo>
                  <a:lnTo>
                    <a:pt x="1211" y="1171"/>
                  </a:lnTo>
                  <a:lnTo>
                    <a:pt x="1083" y="1095"/>
                  </a:lnTo>
                  <a:lnTo>
                    <a:pt x="1071" y="1105"/>
                  </a:lnTo>
                  <a:lnTo>
                    <a:pt x="1064" y="1112"/>
                  </a:lnTo>
                  <a:lnTo>
                    <a:pt x="1056" y="1118"/>
                  </a:lnTo>
                  <a:lnTo>
                    <a:pt x="1049" y="1124"/>
                  </a:lnTo>
                  <a:lnTo>
                    <a:pt x="1041" y="1131"/>
                  </a:lnTo>
                  <a:lnTo>
                    <a:pt x="1034" y="1136"/>
                  </a:lnTo>
                  <a:lnTo>
                    <a:pt x="1026" y="1142"/>
                  </a:lnTo>
                  <a:lnTo>
                    <a:pt x="1019" y="1147"/>
                  </a:lnTo>
                  <a:lnTo>
                    <a:pt x="1011" y="1153"/>
                  </a:lnTo>
                  <a:lnTo>
                    <a:pt x="1000" y="1161"/>
                  </a:lnTo>
                  <a:lnTo>
                    <a:pt x="1039" y="1306"/>
                  </a:lnTo>
                  <a:lnTo>
                    <a:pt x="1033" y="1309"/>
                  </a:lnTo>
                  <a:lnTo>
                    <a:pt x="1028" y="1313"/>
                  </a:lnTo>
                  <a:lnTo>
                    <a:pt x="1022" y="1316"/>
                  </a:lnTo>
                  <a:lnTo>
                    <a:pt x="1016" y="1318"/>
                  </a:lnTo>
                  <a:lnTo>
                    <a:pt x="1010" y="1322"/>
                  </a:lnTo>
                  <a:lnTo>
                    <a:pt x="1003" y="1324"/>
                  </a:lnTo>
                  <a:lnTo>
                    <a:pt x="998" y="1328"/>
                  </a:lnTo>
                  <a:lnTo>
                    <a:pt x="992" y="1330"/>
                  </a:lnTo>
                  <a:lnTo>
                    <a:pt x="902" y="1211"/>
                  </a:lnTo>
                  <a:lnTo>
                    <a:pt x="888" y="1216"/>
                  </a:lnTo>
                  <a:lnTo>
                    <a:pt x="879" y="1219"/>
                  </a:lnTo>
                  <a:lnTo>
                    <a:pt x="870" y="1223"/>
                  </a:lnTo>
                  <a:lnTo>
                    <a:pt x="859" y="1225"/>
                  </a:lnTo>
                  <a:lnTo>
                    <a:pt x="850" y="1229"/>
                  </a:lnTo>
                  <a:lnTo>
                    <a:pt x="841" y="1231"/>
                  </a:lnTo>
                  <a:lnTo>
                    <a:pt x="832" y="1233"/>
                  </a:lnTo>
                  <a:lnTo>
                    <a:pt x="821" y="1235"/>
                  </a:lnTo>
                  <a:lnTo>
                    <a:pt x="812" y="1238"/>
                  </a:lnTo>
                  <a:lnTo>
                    <a:pt x="798" y="124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6800" y="3079440"/>
              <a:ext cx="226080" cy="203400"/>
            </a:xfrm>
            <a:custGeom>
              <a:avLst/>
              <a:gdLst/>
              <a:ahLst/>
              <a:rect l="l" t="t" r="r" b="b"/>
              <a:pathLst>
                <a:path w="592" h="593">
                  <a:moveTo>
                    <a:pt x="133" y="544"/>
                  </a:moveTo>
                  <a:lnTo>
                    <a:pt x="87" y="506"/>
                  </a:lnTo>
                  <a:lnTo>
                    <a:pt x="50" y="459"/>
                  </a:lnTo>
                  <a:lnTo>
                    <a:pt x="23" y="409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6" y="240"/>
                  </a:lnTo>
                  <a:lnTo>
                    <a:pt x="22" y="185"/>
                  </a:lnTo>
                  <a:lnTo>
                    <a:pt x="50" y="132"/>
                  </a:lnTo>
                  <a:lnTo>
                    <a:pt x="59" y="121"/>
                  </a:lnTo>
                  <a:lnTo>
                    <a:pt x="67" y="108"/>
                  </a:lnTo>
                  <a:lnTo>
                    <a:pt x="77" y="98"/>
                  </a:lnTo>
                  <a:lnTo>
                    <a:pt x="88" y="87"/>
                  </a:lnTo>
                  <a:lnTo>
                    <a:pt x="98" y="77"/>
                  </a:lnTo>
                  <a:lnTo>
                    <a:pt x="109" y="68"/>
                  </a:lnTo>
                  <a:lnTo>
                    <a:pt x="120" y="58"/>
                  </a:lnTo>
                  <a:lnTo>
                    <a:pt x="132" y="50"/>
                  </a:lnTo>
                  <a:lnTo>
                    <a:pt x="143" y="42"/>
                  </a:lnTo>
                  <a:lnTo>
                    <a:pt x="156" y="35"/>
                  </a:lnTo>
                  <a:lnTo>
                    <a:pt x="168" y="28"/>
                  </a:lnTo>
                  <a:lnTo>
                    <a:pt x="182" y="23"/>
                  </a:lnTo>
                  <a:lnTo>
                    <a:pt x="195" y="17"/>
                  </a:lnTo>
                  <a:lnTo>
                    <a:pt x="209" y="12"/>
                  </a:lnTo>
                  <a:lnTo>
                    <a:pt x="224" y="9"/>
                  </a:lnTo>
                  <a:lnTo>
                    <a:pt x="238" y="5"/>
                  </a:lnTo>
                  <a:lnTo>
                    <a:pt x="253" y="3"/>
                  </a:lnTo>
                  <a:lnTo>
                    <a:pt x="266" y="1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0" y="0"/>
                  </a:lnTo>
                  <a:lnTo>
                    <a:pt x="324" y="1"/>
                  </a:lnTo>
                  <a:lnTo>
                    <a:pt x="339" y="3"/>
                  </a:lnTo>
                  <a:lnTo>
                    <a:pt x="353" y="5"/>
                  </a:lnTo>
                  <a:lnTo>
                    <a:pt x="367" y="9"/>
                  </a:lnTo>
                  <a:lnTo>
                    <a:pt x="381" y="12"/>
                  </a:lnTo>
                  <a:lnTo>
                    <a:pt x="394" y="17"/>
                  </a:lnTo>
                  <a:lnTo>
                    <a:pt x="408" y="22"/>
                  </a:lnTo>
                  <a:lnTo>
                    <a:pt x="422" y="27"/>
                  </a:lnTo>
                  <a:lnTo>
                    <a:pt x="434" y="34"/>
                  </a:lnTo>
                  <a:lnTo>
                    <a:pt x="447" y="41"/>
                  </a:lnTo>
                  <a:lnTo>
                    <a:pt x="460" y="49"/>
                  </a:lnTo>
                  <a:lnTo>
                    <a:pt x="506" y="87"/>
                  </a:lnTo>
                  <a:lnTo>
                    <a:pt x="543" y="133"/>
                  </a:lnTo>
                  <a:lnTo>
                    <a:pt x="569" y="184"/>
                  </a:lnTo>
                  <a:lnTo>
                    <a:pt x="586" y="238"/>
                  </a:lnTo>
                  <a:lnTo>
                    <a:pt x="592" y="295"/>
                  </a:lnTo>
                  <a:lnTo>
                    <a:pt x="586" y="352"/>
                  </a:lnTo>
                  <a:lnTo>
                    <a:pt x="570" y="408"/>
                  </a:lnTo>
                  <a:lnTo>
                    <a:pt x="543" y="461"/>
                  </a:lnTo>
                  <a:lnTo>
                    <a:pt x="535" y="472"/>
                  </a:lnTo>
                  <a:lnTo>
                    <a:pt x="525" y="485"/>
                  </a:lnTo>
                  <a:lnTo>
                    <a:pt x="516" y="495"/>
                  </a:lnTo>
                  <a:lnTo>
                    <a:pt x="506" y="506"/>
                  </a:lnTo>
                  <a:lnTo>
                    <a:pt x="495" y="516"/>
                  </a:lnTo>
                  <a:lnTo>
                    <a:pt x="484" y="525"/>
                  </a:lnTo>
                  <a:lnTo>
                    <a:pt x="472" y="534"/>
                  </a:lnTo>
                  <a:lnTo>
                    <a:pt x="461" y="542"/>
                  </a:lnTo>
                  <a:lnTo>
                    <a:pt x="449" y="550"/>
                  </a:lnTo>
                  <a:lnTo>
                    <a:pt x="437" y="557"/>
                  </a:lnTo>
                  <a:lnTo>
                    <a:pt x="424" y="564"/>
                  </a:lnTo>
                  <a:lnTo>
                    <a:pt x="410" y="570"/>
                  </a:lnTo>
                  <a:lnTo>
                    <a:pt x="396" y="576"/>
                  </a:lnTo>
                  <a:lnTo>
                    <a:pt x="383" y="580"/>
                  </a:lnTo>
                  <a:lnTo>
                    <a:pt x="369" y="584"/>
                  </a:lnTo>
                  <a:lnTo>
                    <a:pt x="354" y="587"/>
                  </a:lnTo>
                  <a:lnTo>
                    <a:pt x="339" y="590"/>
                  </a:lnTo>
                  <a:lnTo>
                    <a:pt x="325" y="592"/>
                  </a:lnTo>
                  <a:lnTo>
                    <a:pt x="310" y="593"/>
                  </a:lnTo>
                  <a:lnTo>
                    <a:pt x="296" y="593"/>
                  </a:lnTo>
                  <a:lnTo>
                    <a:pt x="281" y="593"/>
                  </a:lnTo>
                  <a:lnTo>
                    <a:pt x="267" y="592"/>
                  </a:lnTo>
                  <a:lnTo>
                    <a:pt x="253" y="590"/>
                  </a:lnTo>
                  <a:lnTo>
                    <a:pt x="239" y="587"/>
                  </a:lnTo>
                  <a:lnTo>
                    <a:pt x="225" y="584"/>
                  </a:lnTo>
                  <a:lnTo>
                    <a:pt x="211" y="580"/>
                  </a:lnTo>
                  <a:lnTo>
                    <a:pt x="197" y="576"/>
                  </a:lnTo>
                  <a:lnTo>
                    <a:pt x="183" y="571"/>
                  </a:lnTo>
                  <a:lnTo>
                    <a:pt x="171" y="565"/>
                  </a:lnTo>
                  <a:lnTo>
                    <a:pt x="158" y="559"/>
                  </a:lnTo>
                  <a:lnTo>
                    <a:pt x="145" y="552"/>
                  </a:lnTo>
                  <a:lnTo>
                    <a:pt x="133" y="544"/>
                  </a:lnTo>
                  <a:close/>
                </a:path>
              </a:pathLst>
            </a:custGeom>
            <a:solidFill>
              <a:srgbClr val="77777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44120" y="2489040"/>
              <a:ext cx="982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542240" y="2925720"/>
            <a:ext cx="82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08160" y="2684520"/>
            <a:ext cx="198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fi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7720" y="4121280"/>
            <a:ext cx="1317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of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alo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6120" y="5002200"/>
            <a:ext cx="10335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s,  harv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25880" y="3656160"/>
            <a:ext cx="848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4840" y="2673360"/>
            <a:ext cx="1195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ind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28" idx="2"/>
            <a:endCxn id="222" idx="2"/>
          </p:cNvCxnSpPr>
          <p:nvPr/>
        </p:nvCxnSpPr>
        <p:spPr>
          <a:xfrm rot="10800000">
            <a:off x="2099520" y="4874400"/>
            <a:ext cx="2102760" cy="10296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0"/>
            <a:endCxn id="230" idx="2"/>
          </p:cNvCxnSpPr>
          <p:nvPr/>
        </p:nvCxnSpPr>
        <p:spPr>
          <a:xfrm flipV="1" rot="16200000">
            <a:off x="6364080" y="4485600"/>
            <a:ext cx="2002320" cy="8640"/>
          </a:xfrm>
          <a:prstGeom prst="curvedConnector5">
            <a:avLst>
              <a:gd name="adj1" fmla="val 49955"/>
              <a:gd name="adj2" fmla="val 47826"/>
              <a:gd name="adj3" fmla="val 49955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1026720" y="5211720"/>
            <a:ext cx="957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23" idx="3"/>
            <a:endCxn id="230" idx="1"/>
          </p:cNvCxnSpPr>
          <p:nvPr/>
        </p:nvCxnSpPr>
        <p:spPr>
          <a:xfrm>
            <a:off x="5601960" y="3003480"/>
            <a:ext cx="1166040" cy="8640"/>
          </a:xfrm>
          <a:prstGeom prst="curvedConnector5">
            <a:avLst>
              <a:gd name="adj1" fmla="val 49845"/>
              <a:gd name="adj2" fmla="val 47826"/>
              <a:gd name="adj3" fmla="val 498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25" idx="2"/>
            <a:endCxn id="228" idx="4"/>
          </p:cNvCxnSpPr>
          <p:nvPr/>
        </p:nvCxnSpPr>
        <p:spPr>
          <a:xfrm flipV="1" rot="10800000">
            <a:off x="5591880" y="5883840"/>
            <a:ext cx="1154880" cy="19800"/>
          </a:xfrm>
          <a:prstGeom prst="curvedConnector5">
            <a:avLst>
              <a:gd name="adj1" fmla="val 49922"/>
              <a:gd name="adj2" fmla="val 50000"/>
              <a:gd name="adj3" fmla="val 4992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27" idx="2"/>
            <a:endCxn id="228" idx="1"/>
          </p:cNvCxnSpPr>
          <p:nvPr/>
        </p:nvCxnSpPr>
        <p:spPr>
          <a:xfrm flipH="1" rot="16200000">
            <a:off x="4579200" y="5225040"/>
            <a:ext cx="635760" cy="2160"/>
          </a:xfrm>
          <a:prstGeom prst="curvedConnector5">
            <a:avLst>
              <a:gd name="adj1" fmla="val 49971"/>
              <a:gd name="adj2" fmla="val 40000"/>
              <a:gd name="adj3" fmla="val 49971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"/>
          <p:cNvCxnSpPr>
            <a:stCxn id="220" idx="3"/>
            <a:endCxn id="223" idx="1"/>
          </p:cNvCxnSpPr>
          <p:nvPr/>
        </p:nvCxnSpPr>
        <p:spPr>
          <a:xfrm>
            <a:off x="2449080" y="2998440"/>
            <a:ext cx="1732680" cy="540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23" idx="2"/>
            <a:endCxn id="227" idx="0"/>
          </p:cNvCxnSpPr>
          <p:nvPr/>
        </p:nvCxnSpPr>
        <p:spPr>
          <a:xfrm flipH="1" rot="16200000">
            <a:off x="4448880" y="3760560"/>
            <a:ext cx="889920" cy="396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23" idx="2"/>
            <a:endCxn id="222" idx="0"/>
          </p:cNvCxnSpPr>
          <p:nvPr/>
        </p:nvCxnSpPr>
        <p:spPr>
          <a:xfrm rot="5400000">
            <a:off x="3044880" y="2372040"/>
            <a:ext cx="902520" cy="2793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656320" y="5500800"/>
            <a:ext cx="1128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ubli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1880" y="4335480"/>
            <a:ext cx="102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33600" y="5634000"/>
            <a:ext cx="1144440" cy="55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 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22" idx="2"/>
            <a:endCxn id="253" idx="0"/>
          </p:cNvCxnSpPr>
          <p:nvPr/>
        </p:nvCxnSpPr>
        <p:spPr>
          <a:xfrm flipH="1" rot="16200000">
            <a:off x="1724040" y="5250960"/>
            <a:ext cx="759600" cy="7200"/>
          </a:xfrm>
          <a:prstGeom prst="curvedConnector5">
            <a:avLst>
              <a:gd name="adj1" fmla="val 49976"/>
              <a:gd name="adj2" fmla="val 47368"/>
              <a:gd name="adj3" fmla="val 4997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22" idx="3"/>
            <a:endCxn id="227" idx="1"/>
          </p:cNvCxnSpPr>
          <p:nvPr/>
        </p:nvCxnSpPr>
        <p:spPr>
          <a:xfrm>
            <a:off x="2784600" y="4548240"/>
            <a:ext cx="1435320" cy="10080"/>
          </a:xfrm>
          <a:prstGeom prst="curvedConnector5">
            <a:avLst>
              <a:gd name="adj1" fmla="val 50000"/>
              <a:gd name="adj2" fmla="val 48148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5699160" y="6330960"/>
            <a:ext cx="25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civall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, Feb 200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y R. Hus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17247" r="0" b="0"/>
          <a:stretch/>
        </p:blipFill>
        <p:spPr>
          <a:xfrm>
            <a:off x="685800" y="2522520"/>
            <a:ext cx="380988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648320" y="2654280"/>
            <a:ext cx="3809880" cy="2614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5870520"/>
            <a:ext cx="835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pita.wustl.edu/capita/capitareports/070511_OGC_GEOSS_Pilot/CFP_Architecture_Implementation_Pilot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2920" y="2946240"/>
            <a:ext cx="8402400" cy="161640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560" y="3017880"/>
            <a:ext cx="1666800" cy="9889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30960" y="3019320"/>
            <a:ext cx="1639800" cy="1076400"/>
          </a:xfrm>
          <a:prstGeom prst="roundRect">
            <a:avLst>
              <a:gd name="adj" fmla="val 16667"/>
            </a:avLst>
          </a:prstGeom>
          <a:solidFill>
            <a:srgbClr val="ff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7600" y="1557360"/>
            <a:ext cx="8407440" cy="109692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7880" y="4906800"/>
            <a:ext cx="8382240" cy="94464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1080" y="1730520"/>
            <a:ext cx="1530360" cy="639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75040" y="1552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55720" y="29368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rvice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67320" y="4950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cess 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57360" y="1735200"/>
            <a:ext cx="1309680" cy="6411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5000" y="307008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SS Regi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6640" y="3625920"/>
            <a:ext cx="1536840" cy="19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3384720"/>
            <a:ext cx="1535400" cy="169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s,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1880" y="507996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8600" y="508464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41640" y="507852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68560" y="507852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054320" y="1697040"/>
            <a:ext cx="1247400" cy="909360"/>
            <a:chOff x="4054320" y="1697040"/>
            <a:chExt cx="1247400" cy="909360"/>
          </a:xfrm>
        </p:grpSpPr>
        <p:sp>
          <p:nvSpPr>
            <p:cNvPr id="279" name=""/>
            <p:cNvSpPr/>
            <p:nvPr/>
          </p:nvSpPr>
          <p:spPr>
            <a:xfrm>
              <a:off x="4221360" y="169704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3960" y="178344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54320" y="1874160"/>
              <a:ext cx="1080360" cy="7322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431120" y="1968480"/>
            <a:ext cx="1349280" cy="420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53360" y="2055960"/>
            <a:ext cx="1349280" cy="420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73800" y="2143080"/>
            <a:ext cx="1349640" cy="420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052880" y="3027240"/>
            <a:ext cx="1247400" cy="1058400"/>
            <a:chOff x="4052880" y="3027240"/>
            <a:chExt cx="1247400" cy="1058400"/>
          </a:xfrm>
        </p:grpSpPr>
        <p:sp>
          <p:nvSpPr>
            <p:cNvPr id="286" name=""/>
            <p:cNvSpPr/>
            <p:nvPr/>
          </p:nvSpPr>
          <p:spPr>
            <a:xfrm>
              <a:off x="4219920" y="3027240"/>
              <a:ext cx="1080360" cy="852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42880" y="3128040"/>
              <a:ext cx="1080360" cy="852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52880" y="3232800"/>
              <a:ext cx="1080360" cy="852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o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500200" y="3030480"/>
            <a:ext cx="1335240" cy="9781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71960" y="507996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4560" y="90000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a"/>
                </a:solidFill>
                <a:latin typeface="Arial"/>
              </a:rPr>
              <a:t>IOC Architecture – Engineering Viewpoint (Feb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87360" y="4064040"/>
            <a:ext cx="22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O Cor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40320" y="407052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mun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16640" y="30322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48240" y="3325680"/>
            <a:ext cx="1582560" cy="304920"/>
            <a:chOff x="5448240" y="3325680"/>
            <a:chExt cx="1582560" cy="304920"/>
          </a:xfrm>
        </p:grpSpPr>
        <p:sp>
          <p:nvSpPr>
            <p:cNvPr id="296" name=""/>
            <p:cNvSpPr/>
            <p:nvPr/>
          </p:nvSpPr>
          <p:spPr>
            <a:xfrm>
              <a:off x="5660280" y="33256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62000" y="33544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48240" y="3385080"/>
              <a:ext cx="137052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, Port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65880" y="3695760"/>
            <a:ext cx="1528200" cy="304920"/>
            <a:chOff x="5465880" y="3695760"/>
            <a:chExt cx="1528200" cy="304920"/>
          </a:xfrm>
        </p:grpSpPr>
        <p:sp>
          <p:nvSpPr>
            <p:cNvPr id="300" name=""/>
            <p:cNvSpPr/>
            <p:nvPr/>
          </p:nvSpPr>
          <p:spPr>
            <a:xfrm>
              <a:off x="5670720" y="36957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75680" y="37245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65880" y="3755160"/>
              <a:ext cx="1323360" cy="245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, 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54120" y="1625760"/>
            <a:ext cx="3220920" cy="27097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86280" y="1636560"/>
            <a:ext cx="3138480" cy="2692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9200" y="5072040"/>
            <a:ext cx="914400" cy="639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alo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16600" y="1316160"/>
            <a:ext cx="28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opted from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civall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 Feb 20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R. Hu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50920" y="1487520"/>
            <a:ext cx="7048440" cy="459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168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I Pilot Development Approach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9640" y="4634640"/>
            <a:ext cx="1725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7200" y="3809160"/>
            <a:ext cx="14716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k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44320" y="2942280"/>
            <a:ext cx="1566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5160" y="2105640"/>
            <a:ext cx="16369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56600" y="5362200"/>
            <a:ext cx="152064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-07-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2"/>
            <a:endCxn id="311" idx="1"/>
          </p:cNvCxnSpPr>
          <p:nvPr/>
        </p:nvCxnSpPr>
        <p:spPr>
          <a:xfrm flipH="1" rot="16200000">
            <a:off x="1670040" y="2595960"/>
            <a:ext cx="511920" cy="82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endCxn id="310" idx="1"/>
          </p:cNvCxnSpPr>
          <p:nvPr/>
        </p:nvCxnSpPr>
        <p:spPr>
          <a:xfrm flipH="1" rot="16200000">
            <a:off x="3317760" y="3481920"/>
            <a:ext cx="526320" cy="772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/>
          <p:nvPr/>
        </p:nvCxnSpPr>
        <p:spPr>
          <a:xfrm flipH="1" rot="16200000">
            <a:off x="4825080" y="4252680"/>
            <a:ext cx="511920" cy="90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endCxn id="313" idx="1"/>
          </p:cNvCxnSpPr>
          <p:nvPr/>
        </p:nvCxnSpPr>
        <p:spPr>
          <a:xfrm flipH="1" rot="16200000">
            <a:off x="6580440" y="5044680"/>
            <a:ext cx="552960" cy="1000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6340320" y="431316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3" idx="2"/>
            <a:endCxn id="312" idx="1"/>
          </p:cNvCxnSpPr>
          <p:nvPr/>
        </p:nvCxnSpPr>
        <p:spPr>
          <a:xfrm flipV="1" rot="16200000">
            <a:off x="2477520" y="643680"/>
            <a:ext cx="3857040" cy="7422480"/>
          </a:xfrm>
          <a:prstGeom prst="bentConnector4">
            <a:avLst>
              <a:gd name="adj1" fmla="val -5927"/>
              <a:gd name="adj2" fmla="val 1030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5761800" y="405936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73520" y="34974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83840" y="3232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35240" y="26370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34400" y="2360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19200" y="181764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29520" y="1552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23400" y="504828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44520" y="474984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973080" y="4092480"/>
            <a:ext cx="2013120" cy="1664640"/>
            <a:chOff x="973080" y="4092480"/>
            <a:chExt cx="2013120" cy="1664640"/>
          </a:xfrm>
        </p:grpSpPr>
        <p:sp>
          <p:nvSpPr>
            <p:cNvPr id="330" name=""/>
            <p:cNvSpPr/>
            <p:nvPr/>
          </p:nvSpPr>
          <p:spPr>
            <a:xfrm>
              <a:off x="973080" y="4640400"/>
              <a:ext cx="20131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79640" y="433548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79640" y="5165640"/>
              <a:ext cx="0" cy="31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14480" y="409248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s for each 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46920" y="54500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5280" y="1671480"/>
            <a:ext cx="41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-07-02 Architecture Implementation Pi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utionary Development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40840" y="6202440"/>
            <a:ext cx="40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Baseline for next evolutionary spi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Process improvement id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720" y="2025720"/>
            <a:ext cx="39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on AIP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46440" y="2025720"/>
            <a:ext cx="39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06400" y="2604960"/>
            <a:ext cx="7785000" cy="642600"/>
            <a:chOff x="806400" y="2604960"/>
            <a:chExt cx="7785000" cy="642600"/>
          </a:xfrm>
        </p:grpSpPr>
        <p:sp>
          <p:nvSpPr>
            <p:cNvPr id="341" name=""/>
            <p:cNvSpPr/>
            <p:nvPr/>
          </p:nvSpPr>
          <p:spPr>
            <a:xfrm>
              <a:off x="806400" y="2604960"/>
              <a:ext cx="34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nctionality defined by developers not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83000" y="2604960"/>
              <a:ext cx="420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IC/ADC collaboration, Workshops: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ify operational SBA functiona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57600" y="2819520"/>
              <a:ext cx="581040" cy="182520"/>
            </a:xfrm>
            <a:prstGeom prst="rightArrow">
              <a:avLst>
                <a:gd name="adj1" fmla="val 50000"/>
                <a:gd name="adj2" fmla="val 795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806400" y="3336840"/>
            <a:ext cx="7720200" cy="642600"/>
            <a:chOff x="806400" y="3336840"/>
            <a:chExt cx="7720200" cy="642600"/>
          </a:xfrm>
        </p:grpSpPr>
        <p:sp>
          <p:nvSpPr>
            <p:cNvPr id="345" name=""/>
            <p:cNvSpPr/>
            <p:nvPr/>
          </p:nvSpPr>
          <p:spPr>
            <a:xfrm>
              <a:off x="806400" y="3336840"/>
              <a:ext cx="34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P Process is 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63920" y="3336840"/>
              <a:ext cx="416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elopment process is iterative; Emphasize anyone can join at any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9040" y="3435480"/>
              <a:ext cx="581040" cy="182520"/>
            </a:xfrm>
            <a:prstGeom prst="rightArrow">
              <a:avLst>
                <a:gd name="adj1" fmla="val 50000"/>
                <a:gd name="adj2" fmla="val 795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806400" y="4173480"/>
            <a:ext cx="7472520" cy="642600"/>
            <a:chOff x="806400" y="4173480"/>
            <a:chExt cx="7472520" cy="642600"/>
          </a:xfrm>
        </p:grpSpPr>
        <p:sp>
          <p:nvSpPr>
            <p:cNvPr id="349" name=""/>
            <p:cNvSpPr/>
            <p:nvPr/>
          </p:nvSpPr>
          <p:spPr>
            <a:xfrm>
              <a:off x="806400" y="4173480"/>
              <a:ext cx="34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focused on demonst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68960" y="4173480"/>
              <a:ext cx="39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mphasize operational persistence; Deliver to AR-07-01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9040" y="4253040"/>
              <a:ext cx="581040" cy="182520"/>
            </a:xfrm>
            <a:prstGeom prst="rightArrow">
              <a:avLst>
                <a:gd name="adj1" fmla="val 50000"/>
                <a:gd name="adj2" fmla="val 795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806400" y="5176800"/>
            <a:ext cx="7607520" cy="642600"/>
            <a:chOff x="806400" y="5176800"/>
            <a:chExt cx="7607520" cy="642600"/>
          </a:xfrm>
        </p:grpSpPr>
        <p:sp>
          <p:nvSpPr>
            <p:cNvPr id="353" name=""/>
            <p:cNvSpPr/>
            <p:nvPr/>
          </p:nvSpPr>
          <p:spPr>
            <a:xfrm>
              <a:off x="806400" y="5176800"/>
              <a:ext cx="34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is structured with milestones and deliver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59240" y="5176800"/>
              <a:ext cx="405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ain structure within a phase; Emphasize iterative &amp; open 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9040" y="5237280"/>
              <a:ext cx="581040" cy="182520"/>
            </a:xfrm>
            <a:prstGeom prst="rightArrow">
              <a:avLst>
                <a:gd name="adj1" fmla="val 50000"/>
                <a:gd name="adj2" fmla="val 795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6389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a50021"/>
                </a:solidFill>
                <a:latin typeface="Tahoma"/>
              </a:rPr>
              <a:t>UIC - ADC Coordination</a:t>
            </a:r>
            <a:endParaRPr b="1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7960" y="1730160"/>
            <a:ext cx="820728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s for SBA context identified through UIC/ADC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s to Els LeDrew (and Gary Foley) for supporting and att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C Go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e users in development and implementation of a sustained GEOSS that provides information required for societal benefit areas as specified by user groups on national, regional and global sc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of UIC: Toronto, May 6-8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 the Tires” workshop on Air Quality on May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02-24T22:50:58Z</dcterms:modified>
  <cp:revision>273</cp:revision>
  <dc:subject/>
  <dc:title>Update on OGC involvement in GEOSS</dc:title>
</cp:coreProperties>
</file>